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2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ftr" idx="2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 type="sldNum" idx="2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A9A0-8E01-4412-9FAA-261F6824B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実習時、実際の学生作らせてい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絵のうち最初の臨床経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24B5-C3EA-4F24-BA15-8691EE2103E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身体所見のまとめ、全身像で表現させ、また内服剤を使った上での現症を作成してもらっ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多くの投薬がされて、今があれば大事な情報なのでそう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53F8-0E7A-49E4-9057-156911F554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肝臓で入院した患者の肝臓の状態を、今までの治療歴を踏ま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にまとめ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よ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をつくることで、患者の全体像がわかり経過がわかります。この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を使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判断の可否、今の状況、今後の問題点などを討議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30D8-6D1E-45B7-8463-4B15623889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EDDCA-EB71-4C8A-87D1-BD92B9B1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52951-00AD-46DB-B217-FF1E067A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7777EA-9C0D-49CE-AE02-B35393A1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7517B-541C-4831-8386-E1E00D8A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EEC8E-AE96-49D3-9D83-90D708A2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D5BFD-881A-4DEF-B695-3D894DF1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5C2F9-5351-43EF-AF60-84589BE9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7743A-96E9-498D-934A-20D21404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538B5-DBD5-43B8-A74F-9DBDE43F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9B53DB-D03A-43A0-BC54-0079B4CCC9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819180-FEF0-43EC-BD09-B934B240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DE7934-BDCF-4576-B9B5-8167CD3C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62997F-4EE4-48BE-BD00-9DFB93CA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5F154D-FB18-488E-95AA-F03A32C4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3B6FA5-EAAA-468B-8B24-109A2910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0D7E3C-E949-41F2-808C-964011A9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436A38-70BD-4D75-A652-D138602B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9D1E7F-53A1-4F6B-875A-CDF756E6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6A3EF0-EA62-478E-888A-F75DC4AB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E96E08-45FE-4EA8-9E0F-B7BC65A1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F1ED0A-0F03-409D-9BA0-3D26DC58AA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F28FD-FD5B-4830-AA87-984EA5BE6B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3D245-C140-433B-B8F6-5E66775C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63BBB-4AC3-4FA8-B609-ACF8F101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107A0-C0CD-4C4D-8C4C-ABE845EB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9247D-169E-40E3-8AAD-9CC2C227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7E5AB-DB42-48E7-A4DF-B63C9293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4D720-8060-476B-845E-5F5C7BC9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B8AC2-E621-481D-841E-05897B14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978D5-D22C-478B-85F8-93419514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CDA2F-8DD2-4A8C-987E-BE0D810F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24F85-8128-4C7B-99ED-26B0A0C2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3589F-3E1D-4C90-BEAD-136E45E0C9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6B383-671F-4844-8C8B-16AB5EA4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B0068-54D3-45C9-A7A8-9C80B218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5513B-07C5-4CD5-9FD1-455DD8F4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F2421-2A58-41DA-B3F5-4060B2DE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3E7EB-3788-469B-8F35-03669A66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65C1F-8004-4CD8-8535-369495B6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2D1C7-14A1-4DD5-85FF-F02505F2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4D9A7-0CEE-45F2-BDB2-1E1C0D3F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FFE2F-CBBB-4C82-B309-04869A4E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A2C3F-A7FD-493C-87CB-E291562B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4A552-E535-46CF-A4D4-DE126C60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ABDA0-2A26-4C04-AA12-A674C574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C35BB-CE0E-4F8B-9A95-F126E3D9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87801-8416-43EA-A224-E85C8841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70135-A574-4E89-99FE-F8A609C1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A69F0-635F-4393-AAA6-5E98EC4F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C8C3E-841F-4921-9284-0EF70EE0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C39E8-971A-4980-953A-307748AB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68647-6C95-4694-AC45-7E1B6A07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393B2-38F2-4EBD-866E-8E9FB0D2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8DCF8-E7D0-418D-BB38-B0F2323C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9021B-94AE-4C1C-B666-2C779636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16989-B104-4948-A45B-5B950DE0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7A482-D947-4DCF-BCF7-66A4BBC6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09BA75-714C-4CAF-A147-D4150300B4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212CD7-484E-410E-9A37-303355D3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9CEFC6-D91C-4C0D-94A2-0D33E4AA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55A9A3-E5D9-4D92-81AE-171A2C47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10A735-72F5-4534-85A3-3BF18E73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0D3677-F471-43F3-A642-DC72E798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CA9FAD-5F81-44A3-8BC5-D947659A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95B81F-CE72-4C80-963B-71D0F013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CA2159-DDCA-46DA-8FE6-C3431511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002DD1-0A49-4A49-B2F7-ADA16E83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671547-04F4-412F-8D21-0CCF321E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56313D-7298-471E-A1D8-C594882D12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E24A-F9D3-4424-8356-CCA73B9108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5E92D-BABF-4EAB-9E65-B9B8687E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2CF0-7359-4945-9A28-82AB64FF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4FC1A-C9A8-4709-B4A0-70F6B09D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CA68C-7D61-410F-A424-C4B99651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E8C1-4544-411C-9534-65B64F01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364A-D1BA-4D71-A720-0C710C36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7815-F038-405F-9A56-1E4DCD9E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8D37-7B92-4B27-97A9-2B43B8A1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85EE6-F21A-4E9A-858E-F52C8455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B75A-36D3-4CDC-8881-9895C4C8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155F-D927-4AA4-88C6-867A2F33B7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4651C-5510-4590-8972-AFA96A31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76032-B3CA-4662-98E4-1DE60FD8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9838D-D49F-4676-A720-FB76532A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B57E7-933A-4312-B8DA-73E53081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52FBB-D5D9-4D66-848C-58F791E9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65DCC-D91D-4F61-BEFD-726E43E8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37352-7A32-447F-A6B2-436DC5FD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A6C51-E82B-40EE-AA97-768B842A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5BAD4-E651-4C21-995D-BEA331FD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C794C-2EB4-4046-99CA-EC5B069F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76B3D-DFF0-4786-8EDC-98606CA3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FBD23-2372-45ED-8ADD-1507220A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4AEE4-D487-4DAE-BBB9-FCEE83D7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A3EF1-4248-4FFC-B6D2-14B88266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7FFE8-BB8B-41AF-9028-AA22CD60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60A56-A16E-454C-A8DD-4381AD5B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8F218-3F0D-4022-A1FB-87BCE4A6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2EAFF-72EE-48C6-A333-2A1565F3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540EF-DA80-446F-8DC4-9877E72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58C15-8FB1-4F77-B341-CAAEDB4B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A290F-B688-4A00-86B8-D157C561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3A033-C8C8-47B6-89A9-C1A07B5C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382E1-C420-42AC-A5FC-DD2ACA69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A15CA-1F30-479C-A4CB-3D28DC6D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FBE060-F5E4-42BB-9976-565E5F90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A5A988-2CEB-4F65-8B91-C7DF6831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E8D932-0851-4B36-A174-DF50EA3A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995459-7883-4934-B264-8512D833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DE80A-4D3E-47B1-AA63-D3B79528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6692E-A973-440A-BDD0-AB914924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A21660-F011-4880-81A8-3F047185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ABDE13-8C8B-4F74-819F-84AE9005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27142-545E-4164-84DF-9C5D6113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E2D55-3557-4A26-82B8-817020CF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7DAA2-D280-45E2-A573-C86977F5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5175F-CC60-40C4-B6F3-314D10FA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2BE25-ADDD-407D-A3B5-12891CEB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7BA10-9458-4194-8357-C82F896E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609B4-7E56-4F9D-8094-BACE19AA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C031-F014-491D-B2D2-079728AD2729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5AA8-C36A-4DB3-973C-20CB692F2C3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4DCB-DFE0-4E39-9FA1-F2450D3ADC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ACEF-6EA2-47CB-B17B-0EA3D0859F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7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7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7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5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2C1D-6FF0-4EB5-850D-0A193FEFA3A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6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6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6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6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6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FF9E-BD5F-44DF-81BE-D9F8C30696F6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C10C-2878-4939-A41A-4EE1257A1F2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DE55-C6E8-4AF6-A4AD-696B3EB67F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CDD4-8493-4697-B892-2348517902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DF38-5006-4C9C-B808-0DA53A09A9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1FB8-244E-41A5-8EC2-D9B28BB573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69E6-87AE-4582-BBD8-B33C2626E81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テキスト ボックス 1"/>
          <p:cNvSpPr/>
          <p:nvPr/>
        </p:nvSpPr>
        <p:spPr>
          <a:xfrm>
            <a:off x="2371680" y="907920"/>
            <a:ext cx="44733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6600"/>
                </a:solidFill>
                <a:latin typeface="Arial"/>
              </a:rPr>
              <a:t>再発食道癌に対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6600"/>
                </a:solidFill>
                <a:latin typeface="Arial"/>
              </a:rPr>
              <a:t>光線力学療法（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PDT</a:t>
            </a:r>
            <a:r>
              <a:rPr b="1" lang="ja-JP" sz="4400" spc="-1" strike="noStrike">
                <a:solidFill>
                  <a:srgbClr val="006600"/>
                </a:solidFill>
                <a:latin typeface="Arial"/>
              </a:rPr>
              <a:t>）を行った一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直線コネクタ 83"/>
          <p:cNvSpPr/>
          <p:nvPr/>
        </p:nvSpPr>
        <p:spPr>
          <a:xfrm>
            <a:off x="7812000" y="1989000"/>
            <a:ext cx="0" cy="81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線コネクタ 51"/>
          <p:cNvSpPr/>
          <p:nvPr/>
        </p:nvSpPr>
        <p:spPr>
          <a:xfrm>
            <a:off x="3949560" y="1989000"/>
            <a:ext cx="0" cy="1349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直線コネクタ 57"/>
          <p:cNvSpPr/>
          <p:nvPr/>
        </p:nvSpPr>
        <p:spPr>
          <a:xfrm>
            <a:off x="4572000" y="1989000"/>
            <a:ext cx="0" cy="2232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線コネクタ 55"/>
          <p:cNvSpPr/>
          <p:nvPr/>
        </p:nvSpPr>
        <p:spPr>
          <a:xfrm>
            <a:off x="6227640" y="1989000"/>
            <a:ext cx="0" cy="2257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線コネクタ 61"/>
          <p:cNvSpPr/>
          <p:nvPr/>
        </p:nvSpPr>
        <p:spPr>
          <a:xfrm flipH="1">
            <a:off x="8386920" y="1989000"/>
            <a:ext cx="1440" cy="26942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ＭＳ Ｐゴシック"/>
              </a:rPr>
              <a:t>症例　</a:t>
            </a:r>
            <a:r>
              <a:rPr b="1" lang="en-US" sz="3200" spc="-1" strike="noStrike">
                <a:solidFill>
                  <a:srgbClr val="006600"/>
                </a:solidFill>
                <a:latin typeface="ＭＳ Ｐゴシック"/>
              </a:rPr>
              <a:t>80</a:t>
            </a:r>
            <a:r>
              <a:rPr b="1" lang="ja-JP" sz="3200" spc="-1" strike="noStrike">
                <a:solidFill>
                  <a:srgbClr val="006600"/>
                </a:solidFill>
                <a:latin typeface="ＭＳ Ｐゴシック"/>
              </a:rPr>
              <a:t>代男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9" name="グループ化 37"/>
          <p:cNvGrpSpPr/>
          <p:nvPr/>
        </p:nvGrpSpPr>
        <p:grpSpPr>
          <a:xfrm>
            <a:off x="196920" y="960480"/>
            <a:ext cx="8623080" cy="4826160"/>
            <a:chOff x="196920" y="960480"/>
            <a:chExt cx="8623080" cy="4826160"/>
          </a:xfrm>
        </p:grpSpPr>
        <p:grpSp>
          <p:nvGrpSpPr>
            <p:cNvPr id="690" name="グループ化 29"/>
            <p:cNvGrpSpPr/>
            <p:nvPr/>
          </p:nvGrpSpPr>
          <p:grpSpPr>
            <a:xfrm>
              <a:off x="196920" y="960480"/>
              <a:ext cx="8623080" cy="4826160"/>
              <a:chOff x="196920" y="960480"/>
              <a:chExt cx="8623080" cy="4826160"/>
            </a:xfrm>
          </p:grpSpPr>
          <p:sp>
            <p:nvSpPr>
              <p:cNvPr id="691" name="角丸四角形 33"/>
              <p:cNvSpPr/>
              <p:nvPr/>
            </p:nvSpPr>
            <p:spPr>
              <a:xfrm>
                <a:off x="7954920" y="4653000"/>
                <a:ext cx="865080" cy="50472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ＭＳ Ｐゴシック"/>
                  </a:rPr>
                  <a:t>PDT</a:t>
                </a:r>
                <a:r>
                  <a:rPr b="1" lang="ja-JP" sz="1100" spc="-1" strike="noStrike">
                    <a:solidFill>
                      <a:srgbClr val="ffffff"/>
                    </a:solidFill>
                    <a:latin typeface="ＭＳ Ｐゴシック"/>
                  </a:rPr>
                  <a:t>施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角丸四角形 35"/>
              <p:cNvSpPr/>
              <p:nvPr/>
            </p:nvSpPr>
            <p:spPr>
              <a:xfrm>
                <a:off x="7020000" y="2636640"/>
                <a:ext cx="1325520" cy="1398600"/>
              </a:xfrm>
              <a:custGeom>
                <a:avLst/>
                <a:gdLst>
                  <a:gd name="textAreaLeft" fmla="*/ 64440 w 1325520"/>
                  <a:gd name="textAreaRight" fmla="*/ 1261080 w 1325520"/>
                  <a:gd name="textAreaTop" fmla="*/ 64440 h 1398600"/>
                  <a:gd name="textAreaBottom" fmla="*/ 1334160 h 1398600"/>
                </a:gdLst>
                <a:ahLst/>
                <a:rect l="textAreaLeft" t="textAreaTop" r="textAreaRight" b="textAreaBottom"/>
                <a:pathLst>
                  <a:path w="21600" h="22791">
                    <a:moveTo>
                      <a:pt x="3600" y="0"/>
                    </a:moveTo>
                    <a:arcTo wR="3600" hR="3600" stAng="16200000" swAng="-5400000"/>
                    <a:lnTo>
                      <a:pt x="0" y="19191"/>
                    </a:lnTo>
                    <a:arcTo wR="3600" hR="3600" stAng="10800000" swAng="-5400000"/>
                    <a:lnTo>
                      <a:pt x="18000" y="2279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手術、放射線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化学療法は困難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ancer board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PDT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治療目的に当科入院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テキスト ボックス 39"/>
              <p:cNvSpPr/>
              <p:nvPr/>
            </p:nvSpPr>
            <p:spPr>
              <a:xfrm>
                <a:off x="5072040" y="1854000"/>
                <a:ext cx="1901520" cy="3017520"/>
              </a:xfrm>
              <a:custGeom>
                <a:avLst/>
                <a:gdLst>
                  <a:gd name="textAreaLeft" fmla="*/ 92520 w 1901520"/>
                  <a:gd name="textAreaRight" fmla="*/ 1809000 w 1901520"/>
                  <a:gd name="textAreaTop" fmla="*/ 92520 h 3017520"/>
                  <a:gd name="textAreaBottom" fmla="*/ 2925000 h 3017520"/>
                </a:gdLst>
                <a:ahLst/>
                <a:rect l="textAreaLeft" t="textAreaTop" r="textAreaRight" b="textAreaBottom"/>
                <a:pathLst>
                  <a:path w="21600" h="34275">
                    <a:moveTo>
                      <a:pt x="3600" y="0"/>
                    </a:moveTo>
                    <a:arcTo wR="3600" hR="3600" stAng="16200000" swAng="-5400000"/>
                    <a:lnTo>
                      <a:pt x="0" y="30675"/>
                    </a:lnTo>
                    <a:arcTo wR="3600" hR="3600" stAng="10800000" swAng="-5400000"/>
                    <a:lnTo>
                      <a:pt x="18000" y="3427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切歯列から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33c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0-I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病変を認め、生検で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SCC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と診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（深達度は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SM massive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疑い）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テキスト ボックス 21"/>
              <p:cNvSpPr/>
              <p:nvPr/>
            </p:nvSpPr>
            <p:spPr>
              <a:xfrm>
                <a:off x="1490400" y="1854000"/>
                <a:ext cx="1928520" cy="3932640"/>
              </a:xfrm>
              <a:custGeom>
                <a:avLst/>
                <a:gdLst>
                  <a:gd name="textAreaLeft" fmla="*/ 93960 w 1928520"/>
                  <a:gd name="textAreaRight" fmla="*/ 1834560 w 1928520"/>
                  <a:gd name="textAreaTop" fmla="*/ 93960 h 3932640"/>
                  <a:gd name="textAreaBottom" fmla="*/ 3838680 h 3932640"/>
                </a:gdLst>
                <a:ahLst/>
                <a:rect l="textAreaLeft" t="textAreaTop" r="textAreaRight" b="textAreaBottom"/>
                <a:pathLst>
                  <a:path w="21600" h="44043">
                    <a:moveTo>
                      <a:pt x="3600" y="0"/>
                    </a:moveTo>
                    <a:arcTo wR="3600" hR="3600" stAng="16200000" swAng="-5400000"/>
                    <a:lnTo>
                      <a:pt x="0" y="40443"/>
                    </a:lnTo>
                    <a:arcTo wR="3600" hR="3600" stAng="10800000" swAng="-5400000"/>
                    <a:lnTo>
                      <a:pt x="18000" y="4404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切歯列から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30-32c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SM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浸潤が疑われ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食道癌を認めた。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(cT1bN0M0 stageⅠ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上記病変に対して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C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(Low-dose FP+RT66Gy)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施行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→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C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角丸四角形 28"/>
              <p:cNvSpPr/>
              <p:nvPr/>
            </p:nvSpPr>
            <p:spPr>
              <a:xfrm>
                <a:off x="3755880" y="4059360"/>
                <a:ext cx="1288800" cy="65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表在型食道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切歯列から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40cm 0-II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ES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テキスト ボックス 25"/>
              <p:cNvSpPr/>
              <p:nvPr/>
            </p:nvSpPr>
            <p:spPr>
              <a:xfrm>
                <a:off x="4315680" y="1484280"/>
                <a:ext cx="814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ＭＳ Ｐゴシック"/>
                  </a:rPr>
                  <a:t>2018</a:t>
                </a:r>
                <a:r>
                  <a:rPr b="0" lang="ja-JP" sz="1600" spc="-1" strike="noStrike">
                    <a:solidFill>
                      <a:srgbClr val="ff0000"/>
                    </a:solidFill>
                    <a:latin typeface="ＭＳ Ｐゴシック"/>
                  </a:rPr>
                  <a:t>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テキスト ボックス 30"/>
              <p:cNvSpPr/>
              <p:nvPr/>
            </p:nvSpPr>
            <p:spPr>
              <a:xfrm>
                <a:off x="5724360" y="1700280"/>
                <a:ext cx="66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1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テキスト ボックス 32"/>
              <p:cNvSpPr/>
              <p:nvPr/>
            </p:nvSpPr>
            <p:spPr>
              <a:xfrm>
                <a:off x="8028000" y="1700280"/>
                <a:ext cx="57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/1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角丸四角形 17"/>
              <p:cNvSpPr/>
              <p:nvPr/>
            </p:nvSpPr>
            <p:spPr>
              <a:xfrm>
                <a:off x="2787480" y="5158080"/>
                <a:ext cx="1657080" cy="5540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照射後甲状腺機能低下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テキスト ボックス 6"/>
              <p:cNvSpPr/>
              <p:nvPr/>
            </p:nvSpPr>
            <p:spPr>
              <a:xfrm>
                <a:off x="196920" y="960480"/>
                <a:ext cx="3074760" cy="307080"/>
              </a:xfrm>
              <a:prstGeom prst="rect">
                <a:avLst/>
              </a:prstGeom>
              <a:solidFill>
                <a:srgbClr val="fdeada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5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年前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 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食道癌化学放射線療法（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CR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角丸四角形 13"/>
              <p:cNvSpPr/>
              <p:nvPr/>
            </p:nvSpPr>
            <p:spPr>
              <a:xfrm>
                <a:off x="3492360" y="3284640"/>
                <a:ext cx="101124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胃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部分切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R-Y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再建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テキスト ボックス 15"/>
              <p:cNvSpPr/>
              <p:nvPr/>
            </p:nvSpPr>
            <p:spPr>
              <a:xfrm>
                <a:off x="1979640" y="1700280"/>
                <a:ext cx="57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3" name="直線矢印コネクタ 4"/>
              <p:cNvCxnSpPr/>
              <p:nvPr/>
            </p:nvCxnSpPr>
            <p:spPr>
              <a:xfrm>
                <a:off x="323280" y="1988640"/>
                <a:ext cx="8496720" cy="1080"/>
              </a:xfrm>
              <a:prstGeom prst="straightConnector1">
                <a:avLst/>
              </a:prstGeom>
              <a:ln w="7632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04" name="角丸四角形 9"/>
              <p:cNvSpPr/>
              <p:nvPr/>
            </p:nvSpPr>
            <p:spPr>
              <a:xfrm>
                <a:off x="1576440" y="2182680"/>
                <a:ext cx="1771560" cy="406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食道癌に対し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R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曲折矢印 41"/>
            <p:cNvSpPr/>
            <p:nvPr/>
          </p:nvSpPr>
          <p:spPr>
            <a:xfrm flipH="1" rot="10800000">
              <a:off x="2405160" y="4841640"/>
              <a:ext cx="358560" cy="647640"/>
            </a:xfrm>
            <a:custGeom>
              <a:avLst/>
              <a:gdLst/>
              <a:ahLst/>
              <a:rect l="l" t="t" r="r" b="b"/>
              <a:pathLst>
                <a:path w="358834" h="647765">
                  <a:moveTo>
                    <a:pt x="0" y="647765"/>
                  </a:moveTo>
                  <a:lnTo>
                    <a:pt x="0" y="201844"/>
                  </a:lnTo>
                  <a:cubicBezTo>
                    <a:pt x="0" y="115141"/>
                    <a:pt x="70287" y="44854"/>
                    <a:pt x="156990" y="44854"/>
                  </a:cubicBezTo>
                  <a:lnTo>
                    <a:pt x="269126" y="44854"/>
                  </a:lnTo>
                  <a:lnTo>
                    <a:pt x="269126" y="0"/>
                  </a:lnTo>
                  <a:lnTo>
                    <a:pt x="358834" y="89709"/>
                  </a:lnTo>
                  <a:lnTo>
                    <a:pt x="269126" y="179417"/>
                  </a:lnTo>
                  <a:lnTo>
                    <a:pt x="269126" y="134563"/>
                  </a:lnTo>
                  <a:lnTo>
                    <a:pt x="156990" y="134563"/>
                  </a:lnTo>
                  <a:cubicBezTo>
                    <a:pt x="119832" y="134563"/>
                    <a:pt x="89709" y="164686"/>
                    <a:pt x="89709" y="201844"/>
                  </a:cubicBezTo>
                  <a:lnTo>
                    <a:pt x="89709" y="647765"/>
                  </a:lnTo>
                  <a:lnTo>
                    <a:pt x="0" y="647765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曲折矢印 42"/>
            <p:cNvSpPr/>
            <p:nvPr/>
          </p:nvSpPr>
          <p:spPr>
            <a:xfrm flipH="1" rot="10800000">
              <a:off x="5723280" y="4005360"/>
              <a:ext cx="360360" cy="576000"/>
            </a:xfrm>
            <a:custGeom>
              <a:avLst/>
              <a:gdLst/>
              <a:ahLst/>
              <a:rect l="l" t="t" r="r" b="b"/>
              <a:pathLst>
                <a:path w="360422" h="576320">
                  <a:moveTo>
                    <a:pt x="0" y="576320"/>
                  </a:moveTo>
                  <a:lnTo>
                    <a:pt x="0" y="202737"/>
                  </a:lnTo>
                  <a:cubicBezTo>
                    <a:pt x="0" y="115650"/>
                    <a:pt x="70598" y="45052"/>
                    <a:pt x="157685" y="45052"/>
                  </a:cubicBezTo>
                  <a:lnTo>
                    <a:pt x="270317" y="45053"/>
                  </a:lnTo>
                  <a:lnTo>
                    <a:pt x="270317" y="0"/>
                  </a:lnTo>
                  <a:lnTo>
                    <a:pt x="360422" y="90106"/>
                  </a:lnTo>
                  <a:lnTo>
                    <a:pt x="270317" y="180211"/>
                  </a:lnTo>
                  <a:lnTo>
                    <a:pt x="270317" y="135158"/>
                  </a:lnTo>
                  <a:lnTo>
                    <a:pt x="157685" y="135158"/>
                  </a:lnTo>
                  <a:cubicBezTo>
                    <a:pt x="120362" y="135158"/>
                    <a:pt x="90106" y="165414"/>
                    <a:pt x="90106" y="202737"/>
                  </a:cubicBezTo>
                  <a:lnTo>
                    <a:pt x="90106" y="576320"/>
                  </a:lnTo>
                  <a:lnTo>
                    <a:pt x="0" y="576320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直線コネクタ 45"/>
          <p:cNvSpPr/>
          <p:nvPr/>
        </p:nvSpPr>
        <p:spPr>
          <a:xfrm>
            <a:off x="2411280" y="2008080"/>
            <a:ext cx="0" cy="1605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テキスト ボックス 3"/>
          <p:cNvSpPr/>
          <p:nvPr/>
        </p:nvSpPr>
        <p:spPr>
          <a:xfrm>
            <a:off x="4832640" y="941400"/>
            <a:ext cx="3198240" cy="39888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再発食道癌に対する光線力学療法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(P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テキスト ボックス 56"/>
          <p:cNvSpPr/>
          <p:nvPr/>
        </p:nvSpPr>
        <p:spPr>
          <a:xfrm>
            <a:off x="2004120" y="147636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2005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テキスト ボックス 56"/>
          <p:cNvSpPr/>
          <p:nvPr/>
        </p:nvSpPr>
        <p:spPr>
          <a:xfrm>
            <a:off x="108000" y="1482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1980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線コネクタ 54"/>
          <p:cNvSpPr/>
          <p:nvPr/>
        </p:nvSpPr>
        <p:spPr>
          <a:xfrm flipV="1">
            <a:off x="554040" y="2007720"/>
            <a:ext cx="0" cy="792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角丸四角形 58"/>
          <p:cNvSpPr/>
          <p:nvPr/>
        </p:nvSpPr>
        <p:spPr>
          <a:xfrm>
            <a:off x="34920" y="2800440"/>
            <a:ext cx="102384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胃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幽門側胃切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Billroth-II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テキスト ボックス 56"/>
          <p:cNvSpPr/>
          <p:nvPr/>
        </p:nvSpPr>
        <p:spPr>
          <a:xfrm>
            <a:off x="3547080" y="14828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2014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テキスト ボックス 25"/>
          <p:cNvSpPr/>
          <p:nvPr/>
        </p:nvSpPr>
        <p:spPr>
          <a:xfrm>
            <a:off x="5607720" y="14810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2020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角丸四角形 73"/>
          <p:cNvSpPr/>
          <p:nvPr/>
        </p:nvSpPr>
        <p:spPr>
          <a:xfrm>
            <a:off x="5364000" y="2171880"/>
            <a:ext cx="1463760" cy="382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CR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後食道癌再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線コネクタ 74"/>
          <p:cNvSpPr/>
          <p:nvPr/>
        </p:nvSpPr>
        <p:spPr>
          <a:xfrm>
            <a:off x="6084720" y="1989000"/>
            <a:ext cx="0" cy="1605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角丸四角形 78"/>
          <p:cNvSpPr/>
          <p:nvPr/>
        </p:nvSpPr>
        <p:spPr>
          <a:xfrm>
            <a:off x="6105600" y="4260960"/>
            <a:ext cx="13255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全身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C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て転移は指摘され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テキスト ボックス 25"/>
          <p:cNvSpPr/>
          <p:nvPr/>
        </p:nvSpPr>
        <p:spPr>
          <a:xfrm>
            <a:off x="7295400" y="14810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2021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テキスト ボックス 32"/>
          <p:cNvSpPr/>
          <p:nvPr/>
        </p:nvSpPr>
        <p:spPr>
          <a:xfrm>
            <a:off x="7526160" y="1700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曲折矢印 44"/>
          <p:cNvSpPr/>
          <p:nvPr/>
        </p:nvSpPr>
        <p:spPr>
          <a:xfrm flipH="1" rot="5400000">
            <a:off x="7343640" y="4107240"/>
            <a:ext cx="505080" cy="344520"/>
          </a:xfrm>
          <a:custGeom>
            <a:avLst/>
            <a:gdLst/>
            <a:ahLst/>
            <a:rect l="l" t="t" r="r" b="b"/>
            <a:pathLst>
              <a:path w="504825" h="344487">
                <a:moveTo>
                  <a:pt x="0" y="344487"/>
                </a:moveTo>
                <a:lnTo>
                  <a:pt x="0" y="193774"/>
                </a:lnTo>
                <a:cubicBezTo>
                  <a:pt x="0" y="110538"/>
                  <a:pt x="67477" y="43061"/>
                  <a:pt x="150713" y="43061"/>
                </a:cubicBezTo>
                <a:lnTo>
                  <a:pt x="418703" y="43061"/>
                </a:lnTo>
                <a:lnTo>
                  <a:pt x="418703" y="0"/>
                </a:lnTo>
                <a:lnTo>
                  <a:pt x="504825" y="86122"/>
                </a:lnTo>
                <a:lnTo>
                  <a:pt x="418703" y="172244"/>
                </a:lnTo>
                <a:lnTo>
                  <a:pt x="418703" y="129183"/>
                </a:lnTo>
                <a:lnTo>
                  <a:pt x="150713" y="129183"/>
                </a:lnTo>
                <a:cubicBezTo>
                  <a:pt x="115040" y="129183"/>
                  <a:pt x="86122" y="158101"/>
                  <a:pt x="86122" y="193774"/>
                </a:cubicBezTo>
                <a:lnTo>
                  <a:pt x="86122" y="344487"/>
                </a:lnTo>
                <a:lnTo>
                  <a:pt x="0" y="344487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3" descr="C:\Users\p039eb\Desktop\ポリクリ\全身図：前.png"/>
          <p:cNvPicPr/>
          <p:nvPr/>
        </p:nvPicPr>
        <p:blipFill>
          <a:blip r:embed="rId1"/>
          <a:stretch/>
        </p:blipFill>
        <p:spPr>
          <a:xfrm>
            <a:off x="1403280" y="1125360"/>
            <a:ext cx="2664000" cy="567396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テキスト ボックス 4"/>
          <p:cNvSpPr/>
          <p:nvPr/>
        </p:nvSpPr>
        <p:spPr>
          <a:xfrm>
            <a:off x="4932360" y="804960"/>
            <a:ext cx="4116240" cy="5397480"/>
          </a:xfrm>
          <a:custGeom>
            <a:avLst/>
            <a:gdLst>
              <a:gd name="textAreaLeft" fmla="*/ 200880 w 4116240"/>
              <a:gd name="textAreaRight" fmla="*/ 3915360 w 4116240"/>
              <a:gd name="textAreaTop" fmla="*/ 200880 h 5397480"/>
              <a:gd name="textAreaBottom" fmla="*/ 5196600 h 5397480"/>
            </a:gdLst>
            <a:ahLst/>
            <a:rect l="textAreaLeft" t="textAreaTop" r="textAreaRight" b="textAreaBottom"/>
            <a:pathLst>
              <a:path w="21600" h="28323">
                <a:moveTo>
                  <a:pt x="3600" y="0"/>
                </a:moveTo>
                <a:arcTo wR="3600" hR="3600" stAng="16200000" swAng="-5400000"/>
                <a:lnTo>
                  <a:pt x="0" y="24723"/>
                </a:lnTo>
                <a:arcTo wR="3600" hR="3600" stAng="10800000" swAng="-5400000"/>
                <a:lnTo>
                  <a:pt x="18000" y="28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 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入院時所見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体温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36.4℃, SpO2: 98%(room 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脈拍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79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/min,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血圧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17/70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生活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飲酒歴：ウイスキー水割り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杯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/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喫煙歴：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65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歳まで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60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/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家族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特記事項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既往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980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頃胃癌手術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Billroth-II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法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01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直腸癌手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05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食道癌（切歯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30-32cm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C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3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下行結腸癌手術、人工肛門造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4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胃癌手術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R-Y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法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8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食道癌（切歯列より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40cm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E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アレルギー】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内服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レボチロキシ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甲状腺ホルモン製剤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ジスチグミ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末梢性コリンエステラーゼ阻害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ロスバスタチ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HMG-CoA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還元酵素阻害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テプレノ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防御因子増強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シロドシ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α1a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遮断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ラタノプロス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プロスタグランジ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F2a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誘導体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角丸四角形吹き出し 5"/>
          <p:cNvSpPr/>
          <p:nvPr/>
        </p:nvSpPr>
        <p:spPr>
          <a:xfrm>
            <a:off x="795240" y="900000"/>
            <a:ext cx="1727280" cy="935280"/>
          </a:xfrm>
          <a:prstGeom prst="wedgeRoundRectCallout">
            <a:avLst>
              <a:gd name="adj1" fmla="val 41222"/>
              <a:gd name="adj2" fmla="val 6423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意識清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リンパ節腫脹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眼瞼結膜：貧血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眼球結膜：黄染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角丸四角形吹き出し 11"/>
          <p:cNvSpPr/>
          <p:nvPr/>
        </p:nvSpPr>
        <p:spPr>
          <a:xfrm>
            <a:off x="108000" y="2112840"/>
            <a:ext cx="2413080" cy="792360"/>
          </a:xfrm>
          <a:prstGeom prst="wedgeRoundRectCallout">
            <a:avLst>
              <a:gd name="adj1" fmla="val 60726"/>
              <a:gd name="adj2" fmla="val 32495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R: 77, BP: 154/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eart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心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Lung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呼吸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 r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角丸四角形吹き出し 12"/>
          <p:cNvSpPr/>
          <p:nvPr/>
        </p:nvSpPr>
        <p:spPr>
          <a:xfrm>
            <a:off x="3348000" y="2219400"/>
            <a:ext cx="1655640" cy="1657440"/>
          </a:xfrm>
          <a:prstGeom prst="wedgeRoundRectCallout">
            <a:avLst>
              <a:gd name="adj1" fmla="val -59972"/>
              <a:gd name="adj2" fmla="val 3394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腹部：平坦、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角丸四角形吹き出し 27"/>
          <p:cNvSpPr/>
          <p:nvPr/>
        </p:nvSpPr>
        <p:spPr>
          <a:xfrm>
            <a:off x="1187280" y="5603760"/>
            <a:ext cx="1152720" cy="432000"/>
          </a:xfrm>
          <a:prstGeom prst="wedgeRoundRectCallout">
            <a:avLst>
              <a:gd name="adj1" fmla="val 67060"/>
              <a:gd name="adj2" fmla="val 389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下腿浮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角丸四角形吹き出し 16"/>
          <p:cNvSpPr/>
          <p:nvPr/>
        </p:nvSpPr>
        <p:spPr>
          <a:xfrm>
            <a:off x="755640" y="3227400"/>
            <a:ext cx="1515960" cy="1033560"/>
          </a:xfrm>
          <a:prstGeom prst="wedgeRoundRectCallout">
            <a:avLst>
              <a:gd name="adj1" fmla="val 63402"/>
              <a:gd name="adj2" fmla="val -5110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肝：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角丸四角形吹き出し 17"/>
          <p:cNvSpPr/>
          <p:nvPr/>
        </p:nvSpPr>
        <p:spPr>
          <a:xfrm>
            <a:off x="3635280" y="4595760"/>
            <a:ext cx="1152720" cy="43200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手掌紅斑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直線コネクタ 3"/>
          <p:cNvSpPr/>
          <p:nvPr/>
        </p:nvSpPr>
        <p:spPr>
          <a:xfrm>
            <a:off x="2987640" y="3413160"/>
            <a:ext cx="21600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直線コネクタ 7"/>
          <p:cNvSpPr/>
          <p:nvPr/>
        </p:nvSpPr>
        <p:spPr>
          <a:xfrm flipH="1">
            <a:off x="2655360" y="3413160"/>
            <a:ext cx="71640" cy="52056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線コネクタ 9"/>
          <p:cNvSpPr/>
          <p:nvPr/>
        </p:nvSpPr>
        <p:spPr>
          <a:xfrm>
            <a:off x="2521080" y="3211560"/>
            <a:ext cx="17928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線コネクタ 18"/>
          <p:cNvSpPr/>
          <p:nvPr/>
        </p:nvSpPr>
        <p:spPr>
          <a:xfrm>
            <a:off x="2484360" y="3363840"/>
            <a:ext cx="17784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線コネクタ 19"/>
          <p:cNvSpPr/>
          <p:nvPr/>
        </p:nvSpPr>
        <p:spPr>
          <a:xfrm>
            <a:off x="2405160" y="3629160"/>
            <a:ext cx="222120" cy="1584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テキスト ボックス 11"/>
          <p:cNvSpPr/>
          <p:nvPr/>
        </p:nvSpPr>
        <p:spPr>
          <a:xfrm>
            <a:off x="154080" y="2546280"/>
            <a:ext cx="857160" cy="5079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治療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入院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角丸四角形 27"/>
          <p:cNvSpPr/>
          <p:nvPr/>
        </p:nvSpPr>
        <p:spPr>
          <a:xfrm>
            <a:off x="154080" y="4221000"/>
            <a:ext cx="8810640" cy="196380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合併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出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穿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皮膚障害（レザフェリン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治療経過（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5</a:t>
            </a: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年生のまとめ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角丸四角形 7"/>
          <p:cNvSpPr/>
          <p:nvPr/>
        </p:nvSpPr>
        <p:spPr>
          <a:xfrm>
            <a:off x="108000" y="933480"/>
            <a:ext cx="4392720" cy="15588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Ｐゴシック"/>
              </a:rPr>
              <a:t>適応、奏効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CR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もしく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後の局所遺残再発食道癌（転移なし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T2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以下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cm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以下、半周以内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完全奏効率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5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Ｐゴシック"/>
              </a:rPr>
              <a:t>禁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タラポルフィンナトリウム過敏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ポルフィリン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放射線治療前の原発巣の大動脈への直接浸潤ありの症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角丸四角形 12"/>
          <p:cNvSpPr/>
          <p:nvPr/>
        </p:nvSpPr>
        <p:spPr>
          <a:xfrm>
            <a:off x="4572000" y="933480"/>
            <a:ext cx="4471920" cy="155880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照射当日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(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当日朝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タラポルフィンナトリウム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0mg/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静脈内投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4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6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時間後（当日午後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レーザー照射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照射あたり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1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分間）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00J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24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時間後（翌日朝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内視鏡観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必要に応じて追加照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2266920" y="4317840"/>
          <a:ext cx="6481800" cy="1775160"/>
        </p:xfrm>
        <a:graphic>
          <a:graphicData uri="http://schemas.openxmlformats.org/drawingml/2006/table">
            <a:tbl>
              <a:tblPr/>
              <a:tblGrid>
                <a:gridCol w="925560"/>
                <a:gridCol w="927000"/>
                <a:gridCol w="925560"/>
                <a:gridCol w="925560"/>
                <a:gridCol w="762120"/>
                <a:gridCol w="163440"/>
                <a:gridCol w="927000"/>
                <a:gridCol w="925560"/>
              </a:tblGrid>
              <a:tr h="258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施行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週間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週間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週間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95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視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レーザー照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必要に応じて追加照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追加照射した場合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視鏡観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視鏡観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食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絶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絶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流動食から開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常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遮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0lux</a:t>
                      </a: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以下の遮光制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光線過敏試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解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741" name="図 8" descr=""/>
          <p:cNvPicPr/>
          <p:nvPr/>
        </p:nvPicPr>
        <p:blipFill>
          <a:blip r:embed="rId1"/>
          <a:srcRect l="11446" t="13594" r="8929" b="16812"/>
          <a:stretch/>
        </p:blipFill>
        <p:spPr>
          <a:xfrm>
            <a:off x="5191200" y="2576520"/>
            <a:ext cx="1806480" cy="1579680"/>
          </a:xfrm>
          <a:prstGeom prst="rect">
            <a:avLst/>
          </a:prstGeom>
          <a:ln w="0">
            <a:noFill/>
          </a:ln>
        </p:spPr>
      </p:pic>
      <p:pic>
        <p:nvPicPr>
          <p:cNvPr id="742" name="図 9" descr=""/>
          <p:cNvPicPr/>
          <p:nvPr/>
        </p:nvPicPr>
        <p:blipFill>
          <a:blip r:embed="rId2"/>
          <a:srcRect l="29653" t="24287" r="12092" b="24796"/>
          <a:stretch/>
        </p:blipFill>
        <p:spPr>
          <a:xfrm>
            <a:off x="1200240" y="2576520"/>
            <a:ext cx="1807920" cy="1581120"/>
          </a:xfrm>
          <a:prstGeom prst="rect">
            <a:avLst/>
          </a:prstGeom>
          <a:ln w="0">
            <a:noFill/>
          </a:ln>
        </p:spPr>
      </p:pic>
      <p:pic>
        <p:nvPicPr>
          <p:cNvPr id="743" name="図 10" descr=""/>
          <p:cNvPicPr/>
          <p:nvPr/>
        </p:nvPicPr>
        <p:blipFill>
          <a:blip r:embed="rId3"/>
          <a:srcRect l="12188" t="12907" r="7242" b="16669"/>
          <a:stretch/>
        </p:blipFill>
        <p:spPr>
          <a:xfrm>
            <a:off x="3197160" y="2576520"/>
            <a:ext cx="1808280" cy="1579680"/>
          </a:xfrm>
          <a:prstGeom prst="rect">
            <a:avLst/>
          </a:prstGeom>
          <a:ln w="0">
            <a:noFill/>
          </a:ln>
        </p:spPr>
      </p:pic>
      <p:pic>
        <p:nvPicPr>
          <p:cNvPr id="744" name="図 10" descr=""/>
          <p:cNvPicPr/>
          <p:nvPr/>
        </p:nvPicPr>
        <p:blipFill>
          <a:blip r:embed="rId4"/>
          <a:srcRect l="29653" t="24696" r="11933" b="24593"/>
          <a:stretch/>
        </p:blipFill>
        <p:spPr>
          <a:xfrm>
            <a:off x="7183440" y="2581200"/>
            <a:ext cx="1806480" cy="1568520"/>
          </a:xfrm>
          <a:prstGeom prst="rect">
            <a:avLst/>
          </a:prstGeom>
          <a:ln w="0">
            <a:noFill/>
          </a:ln>
        </p:spPr>
      </p:pic>
      <p:cxnSp>
        <p:nvCxnSpPr>
          <p:cNvPr id="745" name="直線矢印コネクタ 3"/>
          <p:cNvCxnSpPr/>
          <p:nvPr/>
        </p:nvCxnSpPr>
        <p:spPr>
          <a:xfrm flipV="1">
            <a:off x="3708000" y="4155480"/>
            <a:ext cx="72360" cy="16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6" name="直線矢印コネクタ 5"/>
          <p:cNvCxnSpPr/>
          <p:nvPr/>
        </p:nvCxnSpPr>
        <p:spPr>
          <a:xfrm flipV="1">
            <a:off x="4572000" y="4155480"/>
            <a:ext cx="619920" cy="16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7" name="直線矢印コネクタ 8"/>
          <p:cNvCxnSpPr/>
          <p:nvPr/>
        </p:nvCxnSpPr>
        <p:spPr>
          <a:xfrm flipV="1">
            <a:off x="6443280" y="4149000"/>
            <a:ext cx="740520" cy="168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8" name="直線矢印コネクタ 10"/>
          <p:cNvCxnSpPr/>
          <p:nvPr/>
        </p:nvCxnSpPr>
        <p:spPr>
          <a:xfrm>
            <a:off x="1010880" y="3068280"/>
            <a:ext cx="18972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7:12:52Z</dcterms:modified>
  <cp:revision>124</cp:revision>
  <dc:subject/>
  <dc:title>肝胆膵病態学総論</dc:title>
</cp:coreProperties>
</file>