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5792-FAFD-4F66-B7A0-6F65FDA2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44F-CE56-40AE-875E-90193DD233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936F-770D-4FF2-B44B-DD963FF493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C837-9184-4417-B6C2-963880088D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7504C-C2A8-450B-9265-BD6980E6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5A091-0004-4825-BF03-3F46023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551AF-167F-482F-8714-B4D03A4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EA808-C977-4146-88B1-91443F4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92102-E37B-4E8C-AA71-E3DD2475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D5F6F-E89B-467B-9427-DEDAEB0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89DD6-93D4-440C-A275-8E30D4FC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89873-DD33-47A7-8899-F4DBAD38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BBBA7-5DD7-47D4-BA69-C893E4FA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EEC54-0BE5-4195-A95B-779C3A4AAC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AF56A-F386-4630-A5D0-F7A8A8CC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97533-F784-459E-AD30-F1A6F8F9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A52F5-4D46-4F69-B437-C4906D52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27289-99E0-46A3-9853-6E210188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E2894-B465-44EE-9809-2F9FDC36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7A037-E872-4921-92FF-E749D513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94BD9-8AF4-4918-8429-A2BA4C34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1B4E7-C335-4E84-90FC-18013291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A4D21-78C0-47A7-9D51-BA5726DF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A709AB-CA02-43AD-97A6-394320C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19618-D5CE-4DD7-ACB7-33C3FE23E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7315-6C85-425B-9838-CC9668805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557A5-21DF-4B18-BAA8-3B058A8E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5022-BF79-4B2D-84A3-D9C055ED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4002-CFD5-4977-90B5-691BCA8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79D1-CCC6-483D-87C6-1AAB3F55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785C-7A9E-43B5-8361-8FB84A3A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6386F-7C77-4F69-B8D6-4C0D076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0591-5DC0-4AB9-BFF3-BF16F48B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4235-7FC1-473A-9B5A-CBB08224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698A-79BD-45B1-A3BA-30D6F30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D637-0F02-4E68-86C4-AD10B52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490C-ACE0-4048-A523-47DB3762F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029EE-D21A-4434-947D-D1BD9C9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E82CF-C1C9-46A8-A724-F7BBA38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9018-52FF-41EF-AFE5-7DBA4555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E5ACA-B965-410C-83B3-CBBEA61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02C3-04FF-403A-987B-2E649A7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F7A30-12FF-4623-A805-DEB6882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467A-6480-4857-A480-8DFF5A8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E55C-BA07-499E-BDC7-3F51B15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6830-A633-46D0-8F07-840FCBF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77491-A3D4-4F8B-8990-4D38BEE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E48AC-101A-41B2-A43E-04039300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CA59-526C-433B-83B7-2BFA4947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077FB-E7FF-43D3-BFA0-03836787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31B47-64E8-465B-9250-40CFD89C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6E5D-B04B-4262-BC52-EA2A690D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E5AB4-B500-48B8-A720-19AA7661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003D5-CB8C-4103-8BD2-F87A539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E24E7-FA33-44EA-956C-08269D83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E244-3673-4E13-A2A5-F2B5CA2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23C4-E8DB-46BD-8AD3-901B9F84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A3CDD-539A-495A-89C0-DF17084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1134-277D-4C13-AE14-7627B14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F93B0-0BE6-46F9-B91A-60959B27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0DB29-29C8-4D2C-8DC1-8D436F76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B4FA8-1D45-49BD-8655-CC5A2705DC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72121A-FF23-4E39-A4C6-97B80B2E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BDC04-281D-4A94-B91A-0438180C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106909-2897-4901-A421-AA94E968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FF705-39E4-45BC-A7C3-C7B63C12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6F6E2-F7F5-4CBA-AD7C-9D196156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0CDE4-6637-43BC-A1DC-0203B05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2CE76-43D1-4A68-BF31-E14E8FB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62835-7882-4678-BD83-2AE7751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FCC3E5-2766-4EAC-B9A6-238A4D4A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8F13E-E664-42F5-8BC2-638C1CF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B6E4B-8FAF-4EEA-A881-370878215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A157-06DF-4CAE-8A06-5BF78EF9F0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BA8C-A81C-43B9-BDD1-9B61C6C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2C2F-B1E2-47D8-B6C3-17E342CD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1075-CD41-4601-A600-884AB5C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22F6-E893-4F26-BB18-1AD15B16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8F52-9F62-4CC7-826C-C5C0243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2127-CFB7-46B5-A743-4FC3D76F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AE98-048B-4F26-8A6D-CC93EB5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D903-AA86-4600-B2B7-B9748EA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3E16-72ED-43E9-BF28-E8C61CE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65BD-76FB-4DF5-B78F-8A45C25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A442-C6F0-4F9B-8A09-BA32CDF13A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7C65B-3181-4F19-9CBF-D2C14278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0BDAA-F771-452B-9FDE-AFE1ECA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D2EC8-338A-4CBC-9D22-C966A7E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A77FC-D317-4F47-8101-66433F60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5CCF-D82B-44C2-B0A2-3D8ED11E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9C2B-8E6C-4892-B6A1-7D1FAA1D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036A8-88E6-4AA9-BEF8-DCC5C09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1C734-9A23-4A2E-A7A2-A38C6C0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5B67-A9AA-4442-ABA7-FD35AC4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D89E6-7241-4880-96A1-BDCCE8C6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03792-B746-484F-B8BB-AF1FF8B0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9CE6B-3503-4B2C-9B2F-F29F54C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C6D67-D062-42B6-9D25-8DA9CA93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0907B-19CB-4205-9F22-5537EC54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59728-5A39-429E-9ED3-8223294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3DD52-028C-4145-B8BE-72F7EC8C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F00F0-AE8B-4844-8593-E09EA54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2AB90-6639-4D98-98EB-61192F6B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CE83D-2552-4602-A903-3C5E0DC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5D6EE-61F2-49FA-B1BF-A19CA19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15E6A-633F-4109-88BF-5CDEA4D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DD568-7758-466B-97FE-E4F78176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B34A9-2689-4187-B672-7332B0CA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BC187-C935-4D77-9143-76D54636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93629-5695-4668-8CD6-F4E3A620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3254C-9C06-49B4-A6A3-F437EC09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BB66E-A192-448D-8102-C9766E49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7EE16-F1E9-4AF7-96AD-02C4C2E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B0872-7C07-4389-B084-DA35115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ACC9D-E044-4168-8C08-D65ABB4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79C09-1BEF-4809-B1A1-05EB0D8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5CECB-4E03-44C6-B336-2CD539C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B0AB4-FFEE-41DE-8744-C1BBA93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871E2-668D-413A-8225-53082677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362B5-DE00-4184-9F78-72979596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5D2B0-7B0B-4094-B914-70C22F8C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06177-D7F1-4C3E-A530-D20B6F08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B16D2-9C90-46C2-B773-B33285C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4BB6F-EDED-4DFE-AF55-8F077C3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4D8-F64F-48CA-8072-FB407B270CCA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0DA-5116-4F95-8A24-ABE038CA0B8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9A8-3131-4FE8-BDA3-BCC62082A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F79-B11B-4EE3-85BE-B3F62D55E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1100-04E7-4DCE-BFAE-EAB1D553D77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3B77-33BC-4AE4-9D11-A2E3B0F7E959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85F9-A32B-40E4-90B4-9E7BA956A23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4FF7-D934-4219-9EF2-5086355B5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F47F-9F05-4EDF-A68D-2EBCC34E6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8AF1-E4A6-4060-83D3-5A36D104F8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348-1457-415B-BE3A-B28491961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8CAA-E732-40A4-82DD-035290ED874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1631880" y="2120760"/>
            <a:ext cx="587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ニボルマ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イピリムマブ併用療法によっ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肝障害を生じた一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16"/>
          <p:cNvSpPr/>
          <p:nvPr/>
        </p:nvSpPr>
        <p:spPr>
          <a:xfrm>
            <a:off x="6022800" y="3668760"/>
            <a:ext cx="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 78"/>
          <p:cNvSpPr/>
          <p:nvPr/>
        </p:nvSpPr>
        <p:spPr>
          <a:xfrm>
            <a:off x="438120" y="2305080"/>
            <a:ext cx="5357880" cy="38606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 81"/>
          <p:cNvSpPr/>
          <p:nvPr/>
        </p:nvSpPr>
        <p:spPr>
          <a:xfrm>
            <a:off x="6046920" y="3844800"/>
            <a:ext cx="2869920" cy="2320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肝機能悪化の原因と考えられる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Nivo+Ipi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中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25"/>
          <p:cNvSpPr/>
          <p:nvPr/>
        </p:nvSpPr>
        <p:spPr>
          <a:xfrm>
            <a:off x="4735440" y="213840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15"/>
          <p:cNvSpPr/>
          <p:nvPr/>
        </p:nvSpPr>
        <p:spPr>
          <a:xfrm>
            <a:off x="3884760" y="2138400"/>
            <a:ext cx="0" cy="227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55"/>
          <p:cNvSpPr/>
          <p:nvPr/>
        </p:nvSpPr>
        <p:spPr>
          <a:xfrm>
            <a:off x="6012000" y="2139840"/>
            <a:ext cx="0" cy="67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線コネクタ 61"/>
          <p:cNvSpPr/>
          <p:nvPr/>
        </p:nvSpPr>
        <p:spPr>
          <a:xfrm>
            <a:off x="7851600" y="2138400"/>
            <a:ext cx="0" cy="220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線コネクタ 48"/>
          <p:cNvSpPr/>
          <p:nvPr/>
        </p:nvSpPr>
        <p:spPr>
          <a:xfrm>
            <a:off x="3419640" y="2138400"/>
            <a:ext cx="0" cy="14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グループ化 37"/>
          <p:cNvGrpSpPr/>
          <p:nvPr/>
        </p:nvGrpSpPr>
        <p:grpSpPr>
          <a:xfrm>
            <a:off x="23760" y="1000080"/>
            <a:ext cx="8911080" cy="5021280"/>
            <a:chOff x="23760" y="1000080"/>
            <a:chExt cx="8911080" cy="5021280"/>
          </a:xfrm>
        </p:grpSpPr>
        <p:grpSp>
          <p:nvGrpSpPr>
            <p:cNvPr id="693" name="グループ化 29"/>
            <p:cNvGrpSpPr/>
            <p:nvPr/>
          </p:nvGrpSpPr>
          <p:grpSpPr>
            <a:xfrm>
              <a:off x="23760" y="1000080"/>
              <a:ext cx="8911080" cy="5021280"/>
              <a:chOff x="23760" y="1000080"/>
              <a:chExt cx="8911080" cy="5021280"/>
            </a:xfrm>
          </p:grpSpPr>
          <p:sp>
            <p:nvSpPr>
              <p:cNvPr id="694" name="角丸四角形 27"/>
              <p:cNvSpPr/>
              <p:nvPr/>
            </p:nvSpPr>
            <p:spPr>
              <a:xfrm>
                <a:off x="3255840" y="4424400"/>
                <a:ext cx="1633320" cy="722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2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6843960" y="4289400"/>
                <a:ext cx="201600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PSL 60mg/d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（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1.0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ｍｇ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/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ｋｇ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から治療開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角丸四角形 24"/>
              <p:cNvSpPr/>
              <p:nvPr/>
            </p:nvSpPr>
            <p:spPr>
              <a:xfrm>
                <a:off x="5189400" y="2811240"/>
                <a:ext cx="173664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S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722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L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526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Grade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肝機能悪化のた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消化器内科コンサル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692680" y="1839600"/>
                <a:ext cx="5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4/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3"/>
              <p:cNvSpPr/>
              <p:nvPr/>
            </p:nvSpPr>
            <p:spPr>
              <a:xfrm>
                <a:off x="3978360" y="5280120"/>
                <a:ext cx="1598400" cy="741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3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574720" y="3608280"/>
                <a:ext cx="1560240" cy="7347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1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23760" y="1000080"/>
                <a:ext cx="4711680" cy="5202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7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　右鼻腔悪性黒色腫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T3N0M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）に対し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手術＋術後放射線療法＋術後化学療法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Nivo 1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間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)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1238040" y="3009960"/>
                <a:ext cx="1436400" cy="598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右大腿部に対して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療法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５１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Gy/17Fr</a:t>
                </a: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4"/>
              <p:cNvSpPr/>
              <p:nvPr/>
            </p:nvSpPr>
            <p:spPr>
              <a:xfrm>
                <a:off x="1375920" y="1612800"/>
                <a:ext cx="77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+3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テキスト ボックス 15"/>
              <p:cNvSpPr/>
              <p:nvPr/>
            </p:nvSpPr>
            <p:spPr>
              <a:xfrm>
                <a:off x="1782720" y="1830240"/>
                <a:ext cx="99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6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~29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テキスト ボックス 16"/>
              <p:cNvSpPr/>
              <p:nvPr/>
            </p:nvSpPr>
            <p:spPr>
              <a:xfrm>
                <a:off x="3122640" y="18396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テキスト ボックス 18"/>
              <p:cNvSpPr/>
              <p:nvPr/>
            </p:nvSpPr>
            <p:spPr>
              <a:xfrm>
                <a:off x="3581280" y="1838160"/>
                <a:ext cx="60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テキスト ボックス 26"/>
              <p:cNvSpPr/>
              <p:nvPr/>
            </p:nvSpPr>
            <p:spPr>
              <a:xfrm>
                <a:off x="4549680" y="184752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4/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角丸四角形 9"/>
              <p:cNvSpPr/>
              <p:nvPr/>
            </p:nvSpPr>
            <p:spPr>
              <a:xfrm>
                <a:off x="176040" y="2357280"/>
                <a:ext cx="1812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右大腿部多発転移再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指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8" name="直線矢印コネクタ 4"/>
              <p:cNvCxnSpPr/>
              <p:nvPr/>
            </p:nvCxnSpPr>
            <p:spPr>
              <a:xfrm>
                <a:off x="437760" y="2118960"/>
                <a:ext cx="849744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709" name="曲折矢印 36"/>
            <p:cNvSpPr/>
            <p:nvPr/>
          </p:nvSpPr>
          <p:spPr>
            <a:xfrm flipH="1" rot="10800000">
              <a:off x="2246040" y="3689280"/>
              <a:ext cx="282240" cy="387360"/>
            </a:xfrm>
            <a:custGeom>
              <a:avLst/>
              <a:gdLst/>
              <a:ahLst/>
              <a:rect l="l" t="t" r="r" b="b"/>
              <a:pathLst>
                <a:path w="282603" h="387508">
                  <a:moveTo>
                    <a:pt x="0" y="387508"/>
                  </a:moveTo>
                  <a:lnTo>
                    <a:pt x="0" y="158964"/>
                  </a:lnTo>
                  <a:cubicBezTo>
                    <a:pt x="0" y="90680"/>
                    <a:pt x="55355" y="35325"/>
                    <a:pt x="123639" y="35325"/>
                  </a:cubicBezTo>
                  <a:lnTo>
                    <a:pt x="211952" y="35325"/>
                  </a:lnTo>
                  <a:lnTo>
                    <a:pt x="211952" y="0"/>
                  </a:lnTo>
                  <a:lnTo>
                    <a:pt x="282603" y="70651"/>
                  </a:lnTo>
                  <a:lnTo>
                    <a:pt x="211952" y="141302"/>
                  </a:lnTo>
                  <a:lnTo>
                    <a:pt x="211952" y="105976"/>
                  </a:lnTo>
                  <a:lnTo>
                    <a:pt x="123639" y="105976"/>
                  </a:lnTo>
                  <a:cubicBezTo>
                    <a:pt x="94375" y="105976"/>
                    <a:pt x="70651" y="129700"/>
                    <a:pt x="70651" y="158964"/>
                  </a:cubicBezTo>
                  <a:lnTo>
                    <a:pt x="70651" y="387508"/>
                  </a:lnTo>
                  <a:lnTo>
                    <a:pt x="0" y="387508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曲折矢印 38"/>
            <p:cNvSpPr/>
            <p:nvPr/>
          </p:nvSpPr>
          <p:spPr>
            <a:xfrm flipH="1" rot="10800000">
              <a:off x="2860560" y="4441320"/>
              <a:ext cx="318960" cy="371160"/>
            </a:xfrm>
            <a:custGeom>
              <a:avLst/>
              <a:gdLst/>
              <a:ahLst/>
              <a:rect l="l" t="t" r="r" b="b"/>
              <a:pathLst>
                <a:path w="319120" h="371627">
                  <a:moveTo>
                    <a:pt x="0" y="371627"/>
                  </a:moveTo>
                  <a:lnTo>
                    <a:pt x="0" y="183606"/>
                  </a:lnTo>
                  <a:cubicBezTo>
                    <a:pt x="0" y="106499"/>
                    <a:pt x="62508" y="43991"/>
                    <a:pt x="139615" y="43991"/>
                  </a:cubicBezTo>
                  <a:lnTo>
                    <a:pt x="239340" y="43991"/>
                  </a:lnTo>
                  <a:lnTo>
                    <a:pt x="239340" y="0"/>
                  </a:lnTo>
                  <a:lnTo>
                    <a:pt x="319120" y="79780"/>
                  </a:lnTo>
                  <a:lnTo>
                    <a:pt x="239340" y="159560"/>
                  </a:lnTo>
                  <a:lnTo>
                    <a:pt x="239340" y="115569"/>
                  </a:lnTo>
                  <a:lnTo>
                    <a:pt x="139615" y="115569"/>
                  </a:lnTo>
                  <a:cubicBezTo>
                    <a:pt x="102040" y="115569"/>
                    <a:pt x="71579" y="146030"/>
                    <a:pt x="71579" y="183605"/>
                  </a:cubicBezTo>
                  <a:lnTo>
                    <a:pt x="71579" y="371627"/>
                  </a:lnTo>
                  <a:lnTo>
                    <a:pt x="0" y="371627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曲折矢印 40"/>
            <p:cNvSpPr/>
            <p:nvPr/>
          </p:nvSpPr>
          <p:spPr>
            <a:xfrm flipH="1" rot="10800000">
              <a:off x="3558960" y="5311440"/>
              <a:ext cx="325440" cy="384120"/>
            </a:xfrm>
            <a:custGeom>
              <a:avLst/>
              <a:gdLst/>
              <a:ahLst/>
              <a:rect l="l" t="t" r="r" b="b"/>
              <a:pathLst>
                <a:path w="325471" h="384332">
                  <a:moveTo>
                    <a:pt x="0" y="384332"/>
                  </a:moveTo>
                  <a:lnTo>
                    <a:pt x="0" y="183077"/>
                  </a:lnTo>
                  <a:cubicBezTo>
                    <a:pt x="0" y="104435"/>
                    <a:pt x="63752" y="40683"/>
                    <a:pt x="142394" y="40683"/>
                  </a:cubicBezTo>
                  <a:lnTo>
                    <a:pt x="254460" y="40684"/>
                  </a:lnTo>
                  <a:lnTo>
                    <a:pt x="254460" y="0"/>
                  </a:lnTo>
                  <a:lnTo>
                    <a:pt x="325471" y="81368"/>
                  </a:lnTo>
                  <a:lnTo>
                    <a:pt x="254460" y="162736"/>
                  </a:lnTo>
                  <a:lnTo>
                    <a:pt x="254460" y="122052"/>
                  </a:lnTo>
                  <a:lnTo>
                    <a:pt x="142394" y="122052"/>
                  </a:lnTo>
                  <a:cubicBezTo>
                    <a:pt x="108690" y="122052"/>
                    <a:pt x="81368" y="149374"/>
                    <a:pt x="81368" y="183078"/>
                  </a:cubicBezTo>
                  <a:lnTo>
                    <a:pt x="81368" y="384332"/>
                  </a:lnTo>
                  <a:lnTo>
                    <a:pt x="0" y="384332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直線コネクタ 45"/>
          <p:cNvSpPr/>
          <p:nvPr/>
        </p:nvSpPr>
        <p:spPr>
          <a:xfrm>
            <a:off x="1116000" y="2146320"/>
            <a:ext cx="0" cy="2109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線コネクタ 46"/>
          <p:cNvSpPr/>
          <p:nvPr/>
        </p:nvSpPr>
        <p:spPr>
          <a:xfrm>
            <a:off x="2165400" y="2138400"/>
            <a:ext cx="6480" cy="871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73"/>
          <p:cNvSpPr/>
          <p:nvPr/>
        </p:nvSpPr>
        <p:spPr>
          <a:xfrm>
            <a:off x="7575480" y="182412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テキスト ボックス 3"/>
          <p:cNvSpPr/>
          <p:nvPr/>
        </p:nvSpPr>
        <p:spPr>
          <a:xfrm>
            <a:off x="5853600" y="992160"/>
            <a:ext cx="2253240" cy="5806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66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歳　女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悪性黒色腫の右大腿転移再発で加療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56"/>
          <p:cNvSpPr/>
          <p:nvPr/>
        </p:nvSpPr>
        <p:spPr>
          <a:xfrm>
            <a:off x="249120" y="162576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XX+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79"/>
          <p:cNvSpPr/>
          <p:nvPr/>
        </p:nvSpPr>
        <p:spPr>
          <a:xfrm>
            <a:off x="971640" y="44416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80"/>
          <p:cNvSpPr/>
          <p:nvPr/>
        </p:nvSpPr>
        <p:spPr>
          <a:xfrm>
            <a:off x="855720" y="4611600"/>
            <a:ext cx="20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耳鼻咽喉科に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転移再発に対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加療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右矢印 82"/>
          <p:cNvSpPr/>
          <p:nvPr/>
        </p:nvSpPr>
        <p:spPr>
          <a:xfrm>
            <a:off x="5730840" y="5338800"/>
            <a:ext cx="405000" cy="3906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テキスト ボックス 31"/>
          <p:cNvSpPr/>
          <p:nvPr/>
        </p:nvSpPr>
        <p:spPr>
          <a:xfrm>
            <a:off x="4108320" y="1838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4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線コネクタ 5"/>
          <p:cNvSpPr/>
          <p:nvPr/>
        </p:nvSpPr>
        <p:spPr>
          <a:xfrm>
            <a:off x="4338720" y="2146320"/>
            <a:ext cx="0" cy="7272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角丸四角形 6"/>
          <p:cNvSpPr/>
          <p:nvPr/>
        </p:nvSpPr>
        <p:spPr>
          <a:xfrm>
            <a:off x="3479760" y="2814480"/>
            <a:ext cx="1457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3</a:t>
            </a:r>
            <a:r>
              <a:rPr b="1" lang="ja-JP" sz="1200" spc="-1" strike="noStrike">
                <a:solidFill>
                  <a:srgbClr val="ffc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Grad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ＭＳ Ｐゴシック"/>
              </a:rPr>
              <a:t>肝障害出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矢印 10"/>
          <p:cNvSpPr/>
          <p:nvPr/>
        </p:nvSpPr>
        <p:spPr>
          <a:xfrm>
            <a:off x="4944960" y="3060720"/>
            <a:ext cx="330480" cy="230040"/>
          </a:xfrm>
          <a:prstGeom prst="rightArrow">
            <a:avLst>
              <a:gd name="adj1" fmla="val 50000"/>
              <a:gd name="adj2" fmla="val 50075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 18"/>
          <p:cNvSpPr/>
          <p:nvPr/>
        </p:nvSpPr>
        <p:spPr>
          <a:xfrm>
            <a:off x="5116680" y="400356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に対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ウルソデオキシコール酸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テキスト ボックス 16"/>
          <p:cNvSpPr/>
          <p:nvPr/>
        </p:nvSpPr>
        <p:spPr>
          <a:xfrm>
            <a:off x="830160" y="1838160"/>
            <a:ext cx="6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20920" y="1054080"/>
            <a:ext cx="2663640" cy="56736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テキスト ボックス 4"/>
          <p:cNvSpPr/>
          <p:nvPr/>
        </p:nvSpPr>
        <p:spPr>
          <a:xfrm>
            <a:off x="4900680" y="847800"/>
            <a:ext cx="4164120" cy="5611680"/>
          </a:xfrm>
          <a:custGeom>
            <a:avLst/>
            <a:gdLst>
              <a:gd name="textAreaLeft" fmla="*/ 203040 w 4164120"/>
              <a:gd name="textAreaRight" fmla="*/ 3961080 w 4164120"/>
              <a:gd name="textAreaTop" fmla="*/ 203040 h 5611680"/>
              <a:gd name="textAreaBottom" fmla="*/ 5408640 h 5611680"/>
            </a:gdLst>
            <a:ahLst/>
            <a:rect l="textAreaLeft" t="textAreaTop" r="textAreaRight" b="textAreaBottom"/>
            <a:pathLst>
              <a:path w="21600" h="29108">
                <a:moveTo>
                  <a:pt x="3600" y="0"/>
                </a:moveTo>
                <a:arcTo wR="3600" hR="3600" stAng="16200000" swAng="-5400000"/>
                <a:lnTo>
                  <a:pt x="0" y="25508"/>
                </a:lnTo>
                <a:arcTo wR="3600" hR="3600" stAng="10800000" swAng="-5400000"/>
                <a:lnTo>
                  <a:pt x="18000" y="291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162.4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55.8k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MI:2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T: 36.3 ℃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pO2: 98%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検査所見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2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722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5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LD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65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7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γ-GT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T-bil 0.4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-bil 0.1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T-% 94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PTT 29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秒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b 2.3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WBC 7600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lt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11.2</a:t>
            </a:r>
            <a:r>
              <a:rPr b="1" lang="ja-JP" sz="1200" spc="-1" strike="noStrike">
                <a:solidFill>
                  <a:srgbClr val="0070c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μ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RBC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0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 12.5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t 35.9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CR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3.28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771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4 27.4mg/dl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M 146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原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V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核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ミトコンドリア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、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脳動脈瘤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0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コイル塞栓）、脂質異常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食物：エビ、カニ、ピーナッツ、チョコレ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薬剤：造影剤で蕁麻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アセトアミノフェン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00mg 4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1~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m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5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 3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2~5/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レボチロキシンナトリウム水和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μ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0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フルチカゾンフランカルボン酸エステル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点鼻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day (2021/1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*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出現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1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以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以内で新規開始薬剤は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5"/>
          <p:cNvSpPr/>
          <p:nvPr/>
        </p:nvSpPr>
        <p:spPr>
          <a:xfrm>
            <a:off x="682560" y="885960"/>
            <a:ext cx="1727280" cy="93492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角丸四角形吹き出し 11"/>
          <p:cNvSpPr/>
          <p:nvPr/>
        </p:nvSpPr>
        <p:spPr>
          <a:xfrm>
            <a:off x="88920" y="2230560"/>
            <a:ext cx="2463840" cy="871560"/>
          </a:xfrm>
          <a:prstGeom prst="wedgeRoundRectCallout">
            <a:avLst>
              <a:gd name="adj1" fmla="val 61861"/>
              <a:gd name="adj2" fmla="val 1402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R: 56bpm, BP: 109/64mm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角丸四角形吹き出し 12"/>
          <p:cNvSpPr/>
          <p:nvPr/>
        </p:nvSpPr>
        <p:spPr>
          <a:xfrm>
            <a:off x="3218040" y="2290680"/>
            <a:ext cx="1655640" cy="1971720"/>
          </a:xfrm>
          <a:prstGeom prst="wedgeRoundRectCallout">
            <a:avLst>
              <a:gd name="adj1" fmla="val -75916"/>
              <a:gd name="adj2" fmla="val 2008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角丸四角形吹き出し 27"/>
          <p:cNvSpPr/>
          <p:nvPr/>
        </p:nvSpPr>
        <p:spPr>
          <a:xfrm>
            <a:off x="208080" y="5076720"/>
            <a:ext cx="1877760" cy="728640"/>
          </a:xfrm>
          <a:prstGeom prst="wedgeRoundRectCallout">
            <a:avLst>
              <a:gd name="adj1" fmla="val 72236"/>
              <a:gd name="adj2" fmla="val -691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右大腿部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再発腫瘤を触知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角丸四角形吹き出し 16"/>
          <p:cNvSpPr/>
          <p:nvPr/>
        </p:nvSpPr>
        <p:spPr>
          <a:xfrm>
            <a:off x="174600" y="3755880"/>
            <a:ext cx="1944720" cy="777960"/>
          </a:xfrm>
          <a:prstGeom prst="wedgeRoundRectCallout">
            <a:avLst>
              <a:gd name="adj1" fmla="val 70925"/>
              <a:gd name="adj2" fmla="val -6991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角丸四角形吹き出し 17"/>
          <p:cNvSpPr/>
          <p:nvPr/>
        </p:nvSpPr>
        <p:spPr>
          <a:xfrm>
            <a:off x="3303720" y="1274760"/>
            <a:ext cx="1584360" cy="620640"/>
          </a:xfrm>
          <a:prstGeom prst="wedgeRoundRectCallout">
            <a:avLst>
              <a:gd name="adj1" fmla="val -79013"/>
              <a:gd name="adj2" fmla="val 5509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腫大・圧痛な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可動性良好・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グラフ 7"/>
          <p:cNvGraphicFramePr/>
          <p:nvPr/>
        </p:nvGraphicFramePr>
        <p:xfrm>
          <a:off x="-52560" y="3894120"/>
          <a:ext cx="757728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グラフ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2560" y="3894120"/>
                    <a:ext cx="75772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角丸四角形 17"/>
          <p:cNvSpPr/>
          <p:nvPr/>
        </p:nvSpPr>
        <p:spPr>
          <a:xfrm>
            <a:off x="6732720" y="3813120"/>
            <a:ext cx="2298600" cy="248148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481480"/>
              <a:gd name="textAreaBottom" fmla="*/ 2369520 h 2481480"/>
            </a:gdLst>
            <a:ahLst/>
            <a:rect l="textAreaLeft" t="textAreaTop" r="textAreaRight" b="textAreaBottom"/>
            <a:pathLst>
              <a:path w="21600" h="23318">
                <a:moveTo>
                  <a:pt x="3600" y="0"/>
                </a:moveTo>
                <a:arcTo wR="3600" hR="3600" stAng="16200000" swAng="-5400000"/>
                <a:lnTo>
                  <a:pt x="0" y="19718"/>
                </a:lnTo>
                <a:arcTo wR="3600" hR="3600" stAng="10800000" swAng="-5400000"/>
                <a:lnTo>
                  <a:pt x="18000" y="23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eef4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コンサルト時点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)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ST72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LT526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T-bil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CTCAE Grade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⇒</a:t>
            </a: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ウルソデオキシコール酸投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週明けの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より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PSL60mg/day(1.0mg/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0mg/day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まで減量行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退院予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テキスト ボックス 10"/>
          <p:cNvSpPr/>
          <p:nvPr/>
        </p:nvSpPr>
        <p:spPr>
          <a:xfrm>
            <a:off x="0" y="6048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免疫関連肝障害の診断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テキスト ボックス 45"/>
          <p:cNvSpPr/>
          <p:nvPr/>
        </p:nvSpPr>
        <p:spPr>
          <a:xfrm>
            <a:off x="1941480" y="6068880"/>
            <a:ext cx="47833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SL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投与開始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S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及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速やかに低下し、正常値に戻っ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診断と治療方針　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19"/>
          <p:cNvSpPr/>
          <p:nvPr/>
        </p:nvSpPr>
        <p:spPr>
          <a:xfrm>
            <a:off x="112680" y="362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治療経過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 21"/>
          <p:cNvSpPr/>
          <p:nvPr/>
        </p:nvSpPr>
        <p:spPr>
          <a:xfrm>
            <a:off x="1679400" y="955800"/>
            <a:ext cx="2808360" cy="67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機能検査値異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炎関連症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（黄疸、倦怠感、浮腫、悪心な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円/楕円 22"/>
          <p:cNvSpPr/>
          <p:nvPr/>
        </p:nvSpPr>
        <p:spPr>
          <a:xfrm>
            <a:off x="103320" y="993600"/>
            <a:ext cx="1476360" cy="51444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一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円/楕円 26"/>
          <p:cNvSpPr/>
          <p:nvPr/>
        </p:nvSpPr>
        <p:spPr>
          <a:xfrm>
            <a:off x="104760" y="1766880"/>
            <a:ext cx="1474920" cy="50472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二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 28"/>
          <p:cNvSpPr/>
          <p:nvPr/>
        </p:nvSpPr>
        <p:spPr>
          <a:xfrm>
            <a:off x="1679400" y="172404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他の肝疾患との鑑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ウイルス性肝炎、肝転移、薬物性肝障害など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肝予備能の評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 29"/>
          <p:cNvSpPr/>
          <p:nvPr/>
        </p:nvSpPr>
        <p:spPr>
          <a:xfrm>
            <a:off x="1690560" y="2727360"/>
            <a:ext cx="27972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画像診断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腹部エコー、腹部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など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病理組織学的検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生検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下矢印 31"/>
          <p:cNvSpPr/>
          <p:nvPr/>
        </p:nvSpPr>
        <p:spPr>
          <a:xfrm>
            <a:off x="2990880" y="2516040"/>
            <a:ext cx="216000" cy="201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右矢印 1"/>
          <p:cNvSpPr/>
          <p:nvPr/>
        </p:nvSpPr>
        <p:spPr>
          <a:xfrm>
            <a:off x="4576680" y="113040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矢印 23"/>
          <p:cNvSpPr/>
          <p:nvPr/>
        </p:nvSpPr>
        <p:spPr>
          <a:xfrm>
            <a:off x="4572000" y="1981080"/>
            <a:ext cx="503280" cy="3114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右矢印 24"/>
          <p:cNvSpPr/>
          <p:nvPr/>
        </p:nvSpPr>
        <p:spPr>
          <a:xfrm>
            <a:off x="4572000" y="281628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角丸四角形 2"/>
          <p:cNvSpPr/>
          <p:nvPr/>
        </p:nvSpPr>
        <p:spPr>
          <a:xfrm>
            <a:off x="5292720" y="987480"/>
            <a:ext cx="31669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e4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障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ST,A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黄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倦怠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浮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悪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発熱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角丸四角形 25"/>
          <p:cNvSpPr/>
          <p:nvPr/>
        </p:nvSpPr>
        <p:spPr>
          <a:xfrm>
            <a:off x="5292720" y="1668600"/>
            <a:ext cx="31669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原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c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CV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RP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3.2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BC 7600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T% 94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 B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lb 3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、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核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抗ミトコンドリア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2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明らかな肝転移、被疑薬剤は指摘できなかっ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角丸四角形 27"/>
          <p:cNvSpPr/>
          <p:nvPr/>
        </p:nvSpPr>
        <p:spPr>
          <a:xfrm>
            <a:off x="5292720" y="2778120"/>
            <a:ext cx="3166920" cy="46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障害を来す明らかな器質的異常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生検は未施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テキスト ボックス 3"/>
          <p:cNvSpPr/>
          <p:nvPr/>
        </p:nvSpPr>
        <p:spPr>
          <a:xfrm>
            <a:off x="5527800" y="33638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診断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肝障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de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曲折矢印 5"/>
          <p:cNvSpPr/>
          <p:nvPr/>
        </p:nvSpPr>
        <p:spPr>
          <a:xfrm flipV="1">
            <a:off x="6094440" y="3790080"/>
            <a:ext cx="638280" cy="419400"/>
          </a:xfrm>
          <a:custGeom>
            <a:avLst/>
            <a:gdLst/>
            <a:ahLst/>
            <a:rect l="l" t="t" r="r" b="b"/>
            <a:pathLst>
              <a:path w="638175" h="419100">
                <a:moveTo>
                  <a:pt x="0" y="419100"/>
                </a:moveTo>
                <a:lnTo>
                  <a:pt x="0" y="240364"/>
                </a:lnTo>
                <a:cubicBezTo>
                  <a:pt x="0" y="139099"/>
                  <a:pt x="82091" y="57008"/>
                  <a:pt x="183356" y="57008"/>
                </a:cubicBezTo>
                <a:lnTo>
                  <a:pt x="533400" y="57008"/>
                </a:lnTo>
                <a:lnTo>
                  <a:pt x="533400" y="0"/>
                </a:lnTo>
                <a:lnTo>
                  <a:pt x="638175" y="118635"/>
                </a:lnTo>
                <a:lnTo>
                  <a:pt x="533400" y="237269"/>
                </a:lnTo>
                <a:lnTo>
                  <a:pt x="533400" y="180261"/>
                </a:lnTo>
                <a:lnTo>
                  <a:pt x="183356" y="180261"/>
                </a:lnTo>
                <a:cubicBezTo>
                  <a:pt x="150162" y="180261"/>
                  <a:pt x="123253" y="207170"/>
                  <a:pt x="123253" y="240364"/>
                </a:cubicBezTo>
                <a:lnTo>
                  <a:pt x="123253" y="419100"/>
                </a:lnTo>
                <a:lnTo>
                  <a:pt x="0" y="4191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b7de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図 8" descr=""/>
          <p:cNvPicPr/>
          <p:nvPr/>
        </p:nvPicPr>
        <p:blipFill>
          <a:blip r:embed="rId3"/>
          <a:srcRect l="31654" t="21645" r="32087" b="10235"/>
          <a:stretch/>
        </p:blipFill>
        <p:spPr>
          <a:xfrm>
            <a:off x="23760" y="2354400"/>
            <a:ext cx="1655640" cy="1230120"/>
          </a:xfrm>
          <a:prstGeom prst="rect">
            <a:avLst/>
          </a:prstGeom>
          <a:ln w="0">
            <a:noFill/>
          </a:ln>
        </p:spPr>
      </p:pic>
      <p:sp>
        <p:nvSpPr>
          <p:cNvPr id="758" name="直線コネクタ 30"/>
          <p:cNvSpPr/>
          <p:nvPr/>
        </p:nvSpPr>
        <p:spPr>
          <a:xfrm>
            <a:off x="2771640" y="4192560"/>
            <a:ext cx="0" cy="155592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線コネクタ 32"/>
          <p:cNvSpPr/>
          <p:nvPr/>
        </p:nvSpPr>
        <p:spPr>
          <a:xfrm>
            <a:off x="3635280" y="4192560"/>
            <a:ext cx="0" cy="151128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角丸四角形 13"/>
          <p:cNvSpPr/>
          <p:nvPr/>
        </p:nvSpPr>
        <p:spPr>
          <a:xfrm>
            <a:off x="2357280" y="5748480"/>
            <a:ext cx="82872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コンサル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角丸四角形 13"/>
          <p:cNvSpPr/>
          <p:nvPr/>
        </p:nvSpPr>
        <p:spPr>
          <a:xfrm>
            <a:off x="3295800" y="5748480"/>
            <a:ext cx="8283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PSL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導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05:23Z</dcterms:modified>
  <cp:revision>158</cp:revision>
  <dc:subject/>
  <dc:title>肝胆膵病態学総論</dc:title>
</cp:coreProperties>
</file>