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330-7B48-4E87-A37A-F1CFD7FD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E56-5906-4EF7-B1AB-1186DA6A63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ノプラザン（タケキャブ）→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リメブチン　→　胃腸薬（慢性胃炎、過敏性腸症候群：腸の動きを正常化す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コバラミン（メチコバール）→　ビタミ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製剤（末梢神経障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モサプリド　→　副交感神経刺激薬（消化管運動亢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酪酸塩（ビオスリー）→　整腸剤（下痢、便秘、腹部膨満：乳酸菌を補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レカバリン（リリカ）→　鎮痛（中枢神経系において神経細胞を興奮させ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イオンの流入を抑え、興奮性神経伝達物質の過剰な放出を抑え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酸化マグネシウム　→　排便を促す（塩類下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ジメモルファリン（アストミン錠）→　鎮咳薬（咳中枢の抑制、気道拡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エピナスチン　→　抗ヒスタミン薬（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D79-45CA-400D-B761-61EBD71BE0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P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シスプラチン製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BEE-2E23-4553-8138-160DFDC85E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D6750-6615-41A1-A557-C2147988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354C1-5C40-4E83-8D09-32FA075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FD784-EBB9-48BA-AB4E-FEA6DACE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05594-9BA3-4E78-AF32-0B7688A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86035-B841-4511-8AA0-B276E78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5D90B-F526-4A7C-8828-D7EAC45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42845-2D0F-4B91-A81D-E91C5D49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C9771-B48E-4629-9CF9-08E186FD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64AA7-357B-4858-9C74-E857F770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EBEC5-D34C-4CC9-AE0D-68A1E37C0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C2074-4749-442D-81E7-10DEC5B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559A2-836E-4151-B180-8B6BE63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A1747-BD7D-4C8E-8CE0-A48C9BDE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EF636-A855-4F9F-9315-1F5D4DBF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92F603-718D-46BA-8E18-B32D809A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DAC16-61A0-4CA5-B1FC-7D28A2A2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C8C7C-FEC4-4640-B0C6-AB38517E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0882B-1501-45E4-A010-2A45460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FD4F9-D953-4AD0-83E8-C0E46C4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381A9-0BAF-4481-BED8-91DB3DD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849D9-E274-46F3-9C5F-06BC06BAA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D8FC-99F1-4BB9-9ADF-09E733806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AD1C-2D3D-48B5-8214-E53D57B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C482C-2D12-44BF-9FFC-22600558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B7C9-0380-4054-BD83-9282F20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74B3-0BEB-433C-9F1C-DC94FF7E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5FA9-DFB3-495A-8641-635724C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CCF1-62B4-4390-9641-A85A747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41DB-9C25-4614-9E6C-9739545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05CA-178E-4308-95C2-E8E7AD2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7017-F12D-4F9E-89A0-BC259C16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1B8F-E9EB-4143-84C8-594ED34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9C7A2-F874-4CF7-8CCA-3ECFCD87E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48B7-E30E-464B-8A91-04F371C3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F2789-BE76-4F96-9571-0AD02E9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87AD-B0E5-48CC-A21B-BE38F2ED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275F-4071-4C07-B9CD-B0A13D3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545E5-53C9-40C6-B256-E000C73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CCDB-86A4-41ED-93A3-D09702C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87E0-7DC8-4D98-8D63-5E89ACE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551B-3FEC-4F98-AD14-60D570C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0943-0DFE-4899-BF87-8AC0163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159E-F73A-475F-87ED-1DF06987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13C36-9BA5-4AC2-AB28-B3650E4A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A939-CAEC-435B-BC09-9A1730DC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C925-7E67-480A-B461-FC1E42A1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D0BD-C24C-4F5D-8D61-8F3CCBF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B9B3-2029-498E-8B0B-F4B33AB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8A6BC-88D9-4BC6-8559-7D0CAF9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3F324-201A-4BA7-B512-30DAED5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731F-E069-48B1-B797-7637D5DC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B78A-7580-418F-B457-65CF624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AA41B-735A-4EA2-A611-243713C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3E51-888C-4D80-8F8D-1B64ED1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527A-5EEC-40FC-98A2-42392879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FCB03-8E80-4A0D-8B79-682B0D63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33C0-1BF2-4FF1-A6AE-C77916D3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A0BA5-42A4-480C-9CFC-2ABAB39D3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2F84D-C204-456A-A799-1CDD42A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1D588-A4F2-475C-92F5-4FE8884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703EF-B44C-4B80-AC21-A3929F7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AC3DD-0E56-4844-8DCF-51A5C624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F9093-3D96-4BCB-8BBD-850FBD82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CC7AA-CB44-4515-8FF7-6C565B0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5819E-A1A8-4331-B973-90B9A608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5F943-C8A2-40CD-B27F-FB27207E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76CD7-6CAF-4BBF-97DB-040C248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BC71B-1676-409A-B8E3-68080B7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C05C2-279A-4408-9839-F29E9BF57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E1B8-D683-4C41-B5FC-8CBE22A0E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2196-C707-4D40-81BD-4E67420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E54E-5B26-499C-BC22-0DB35D90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C148-E20D-4F12-907D-8EBC76BF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78F9-C3C1-4016-858C-3DE8C299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C0A9-C560-46A4-8EB8-F1103D6C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CE98-C320-4260-9D82-31798D9E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DF7C-CF6F-450E-BD22-0906DC8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3E0E-9F27-485F-90D9-2822068F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3C80-FE77-4D83-8292-7CF0EC60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189A-A0BC-44FC-9B9F-0C9B278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FEE8-2921-47C5-905B-BA0BA148E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9B476-930C-4977-A594-5797989E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F37C-04DE-4B85-9EBE-75BAC60F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EDA77-318F-4331-8090-51E65AA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B934F-C64A-4A7D-A33D-4DB4B67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702C-65FC-43AE-BFFA-3342EA01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6E49D-AAC0-4277-BE22-2FD3999C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AB67-5204-4034-9EFD-41C0DEE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D7B1-4470-4C4B-BF13-037C0C4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4549-5E1E-4923-8648-0C52794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C3BED-6D77-48E9-AE30-BD61489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4C2B5-7048-4E4B-AEEC-4DEA3624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24E2-1379-4F85-8C37-386B2342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5F5EA-86A0-45FF-A8DB-DED1DEF4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35F48-87A8-4E8E-8CE1-97A2187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17A04-0627-4A30-9116-D593B1B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67036-2525-4095-8669-720A580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06154-332B-4E01-B4C0-2AADAB80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F0D18-1740-4B35-BF2A-D001535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7BDA9-AE34-4CB3-B920-0C4A420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7282A-994E-43D0-8BD4-29AD592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79C59-D2B9-4178-9C41-E79E806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DC589-3AF4-4219-940A-2A5DAA1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39EAA-F3D9-4CA9-AA03-732A30F2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1DDBB-9FC7-4C3E-945B-45C210B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49787-7E6C-4F24-A7CA-32ADEC83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943F3-AF75-450F-BC2D-3EC9037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55C08-8FFC-44F9-BF65-3B1E7FE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526F9-F3DF-4305-BF9F-E41EFBA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4426B-389F-4811-BC8B-9AD376F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5E0DE-628C-4910-99AA-7ADD18D9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64490-5AC2-4069-8B09-E3DAE3E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14668-806F-450D-813D-5A498E0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0CE6A-9852-4E28-AA6F-BBE8188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A248E-36FE-4540-9F07-DD4C414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511C9-9689-4701-83A5-2F0096EF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B9695-9030-4260-A889-1B60F8BE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D3BDF-DADE-4EF3-B331-3570C962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BE4F7-6AF1-47FF-B5F2-EB3BA3A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7853B-8513-4F52-B0B8-519695D2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3C9-FAA1-4A8C-B4CA-227992413601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139D-C7E6-4623-98B9-F5F356489D4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602A-0002-4A38-9D23-84FF56A2E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438-E0DF-4783-8D99-5E0803BAD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B3B-49F7-42BA-B6F9-D94D212A400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D4FE-8419-43AC-8DBF-D9CFDA5E55D2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268D-8227-4910-8817-D8F3A5E74F3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971-6903-4F19-873A-868FFD4C6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332-C4D4-4DDB-8377-0BA088085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1BF4-B6E7-4DDB-831B-DA7CFC42F8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A0F-36B6-49F6-96F2-E3D3902E5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7C20-BDDA-44B6-A760-6F2FD683FA0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629800" y="144468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多発肝細胞癌に対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TACE</a:t>
            </a: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を施行した一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テキスト ボックス 3"/>
          <p:cNvSpPr/>
          <p:nvPr/>
        </p:nvSpPr>
        <p:spPr>
          <a:xfrm>
            <a:off x="6300720" y="871560"/>
            <a:ext cx="215100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　再発する肝細胞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テキスト ボックス 56"/>
          <p:cNvSpPr/>
          <p:nvPr/>
        </p:nvSpPr>
        <p:spPr>
          <a:xfrm>
            <a:off x="58608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9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グループ化 7"/>
          <p:cNvGrpSpPr/>
          <p:nvPr/>
        </p:nvGrpSpPr>
        <p:grpSpPr>
          <a:xfrm>
            <a:off x="95400" y="1657440"/>
            <a:ext cx="8622720" cy="3332160"/>
            <a:chOff x="95400" y="1657440"/>
            <a:chExt cx="8622720" cy="3332160"/>
          </a:xfrm>
        </p:grpSpPr>
        <p:sp>
          <p:nvSpPr>
            <p:cNvPr id="687" name="角丸四角形 9"/>
            <p:cNvSpPr/>
            <p:nvPr/>
          </p:nvSpPr>
          <p:spPr>
            <a:xfrm>
              <a:off x="468360" y="2882880"/>
              <a:ext cx="121104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TAE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施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（当院放射線科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グループ化 5"/>
            <p:cNvGrpSpPr/>
            <p:nvPr/>
          </p:nvGrpSpPr>
          <p:grpSpPr>
            <a:xfrm>
              <a:off x="95400" y="1657440"/>
              <a:ext cx="8622720" cy="3332160"/>
              <a:chOff x="95400" y="1657440"/>
              <a:chExt cx="8622720" cy="3332160"/>
            </a:xfrm>
          </p:grpSpPr>
          <p:sp>
            <p:nvSpPr>
              <p:cNvPr id="689" name="直線コネクタ 77"/>
              <p:cNvSpPr/>
              <p:nvPr/>
            </p:nvSpPr>
            <p:spPr>
              <a:xfrm>
                <a:off x="7667640" y="2000160"/>
                <a:ext cx="0" cy="11397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直線コネクタ 51"/>
              <p:cNvSpPr/>
              <p:nvPr/>
            </p:nvSpPr>
            <p:spPr>
              <a:xfrm>
                <a:off x="2882880" y="2860560"/>
                <a:ext cx="7920" cy="1216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線コネクタ 53"/>
              <p:cNvSpPr/>
              <p:nvPr/>
            </p:nvSpPr>
            <p:spPr>
              <a:xfrm>
                <a:off x="3967200" y="1993680"/>
                <a:ext cx="0" cy="2562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線コネクタ 55"/>
              <p:cNvSpPr/>
              <p:nvPr/>
            </p:nvSpPr>
            <p:spPr>
              <a:xfrm>
                <a:off x="5867640" y="1987560"/>
                <a:ext cx="0" cy="12650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線コネクタ 57"/>
              <p:cNvSpPr/>
              <p:nvPr/>
            </p:nvSpPr>
            <p:spPr>
              <a:xfrm>
                <a:off x="4788000" y="1987560"/>
                <a:ext cx="0" cy="55692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線コネクタ 59"/>
              <p:cNvSpPr/>
              <p:nvPr/>
            </p:nvSpPr>
            <p:spPr>
              <a:xfrm>
                <a:off x="6443640" y="1989000"/>
                <a:ext cx="0" cy="17398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線コネクタ 61"/>
              <p:cNvSpPr/>
              <p:nvPr/>
            </p:nvSpPr>
            <p:spPr>
              <a:xfrm>
                <a:off x="7093080" y="1989000"/>
                <a:ext cx="0" cy="703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線コネクタ 48"/>
              <p:cNvSpPr/>
              <p:nvPr/>
            </p:nvSpPr>
            <p:spPr>
              <a:xfrm>
                <a:off x="2881440" y="1989000"/>
                <a:ext cx="0" cy="555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角丸四角形 33"/>
              <p:cNvSpPr/>
              <p:nvPr/>
            </p:nvSpPr>
            <p:spPr>
              <a:xfrm>
                <a:off x="7812360" y="3589560"/>
                <a:ext cx="865080" cy="415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TACE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（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S7,S8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7"/>
              <p:cNvSpPr/>
              <p:nvPr/>
            </p:nvSpPr>
            <p:spPr>
              <a:xfrm>
                <a:off x="2368440" y="4077000"/>
                <a:ext cx="115236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消化器内科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紹介受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23"/>
              <p:cNvSpPr/>
              <p:nvPr/>
            </p:nvSpPr>
            <p:spPr>
              <a:xfrm>
                <a:off x="1135080" y="3414960"/>
                <a:ext cx="12762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腹腔鏡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肝部分切除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当院外科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角丸四角形 13"/>
              <p:cNvSpPr/>
              <p:nvPr/>
            </p:nvSpPr>
            <p:spPr>
              <a:xfrm>
                <a:off x="4156200" y="2347920"/>
                <a:ext cx="1357200" cy="58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８単発を指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直線矢印コネクタ 4"/>
              <p:cNvCxnSpPr/>
              <p:nvPr/>
            </p:nvCxnSpPr>
            <p:spPr>
              <a:xfrm>
                <a:off x="221760" y="196020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2" name="角丸四角形 28"/>
              <p:cNvSpPr/>
              <p:nvPr/>
            </p:nvSpPr>
            <p:spPr>
              <a:xfrm>
                <a:off x="6524640" y="2357280"/>
                <a:ext cx="16063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7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曲折矢印 40"/>
              <p:cNvSpPr/>
              <p:nvPr/>
            </p:nvSpPr>
            <p:spPr>
              <a:xfrm flipH="1" rot="10800000">
                <a:off x="3206880" y="4516560"/>
                <a:ext cx="288720" cy="287280"/>
              </a:xfrm>
              <a:custGeom>
                <a:avLst/>
                <a:gdLst/>
                <a:ahLst/>
                <a:rect l="l" t="t" r="r" b="b"/>
                <a:pathLst>
                  <a:path w="288925" h="287337">
                    <a:moveTo>
                      <a:pt x="0" y="287337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7091" y="35917"/>
                    </a:lnTo>
                    <a:lnTo>
                      <a:pt x="217091" y="0"/>
                    </a:lnTo>
                    <a:lnTo>
                      <a:pt x="288925" y="71834"/>
                    </a:lnTo>
                    <a:lnTo>
                      <a:pt x="217091" y="143669"/>
                    </a:lnTo>
                    <a:lnTo>
                      <a:pt x="217091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287337"/>
                    </a:lnTo>
                    <a:lnTo>
                      <a:pt x="0" y="287337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曲折矢印 41"/>
              <p:cNvSpPr/>
              <p:nvPr/>
            </p:nvSpPr>
            <p:spPr>
              <a:xfrm flipH="1" rot="10800000">
                <a:off x="5147280" y="2924280"/>
                <a:ext cx="276120" cy="379440"/>
              </a:xfrm>
              <a:custGeom>
                <a:avLst/>
                <a:gdLst/>
                <a:ahLst/>
                <a:rect l="l" t="t" r="r" b="b"/>
                <a:pathLst>
                  <a:path w="276225" h="379413">
                    <a:moveTo>
                      <a:pt x="0" y="379413"/>
                    </a:moveTo>
                    <a:lnTo>
                      <a:pt x="0" y="155377"/>
                    </a:lnTo>
                    <a:cubicBezTo>
                      <a:pt x="0" y="88634"/>
                      <a:pt x="54105" y="34529"/>
                      <a:pt x="120848" y="34529"/>
                    </a:cubicBezTo>
                    <a:lnTo>
                      <a:pt x="207169" y="34528"/>
                    </a:lnTo>
                    <a:lnTo>
                      <a:pt x="207169" y="0"/>
                    </a:lnTo>
                    <a:lnTo>
                      <a:pt x="276225" y="69056"/>
                    </a:lnTo>
                    <a:lnTo>
                      <a:pt x="207169" y="138113"/>
                    </a:lnTo>
                    <a:lnTo>
                      <a:pt x="207169" y="103584"/>
                    </a:lnTo>
                    <a:lnTo>
                      <a:pt x="120848" y="103584"/>
                    </a:lnTo>
                    <a:cubicBezTo>
                      <a:pt x="92244" y="103584"/>
                      <a:pt x="69056" y="126772"/>
                      <a:pt x="69056" y="155376"/>
                    </a:cubicBezTo>
                    <a:lnTo>
                      <a:pt x="69056" y="379413"/>
                    </a:lnTo>
                    <a:lnTo>
                      <a:pt x="0" y="37941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曲折矢印 42"/>
              <p:cNvSpPr/>
              <p:nvPr/>
            </p:nvSpPr>
            <p:spPr>
              <a:xfrm flipH="1" rot="10800000">
                <a:off x="5724720" y="3428640"/>
                <a:ext cx="288720" cy="360360"/>
              </a:xfrm>
              <a:custGeom>
                <a:avLst/>
                <a:gdLst/>
                <a:ahLst/>
                <a:rect l="l" t="t" r="r" b="b"/>
                <a:pathLst>
                  <a:path w="288925" h="360363">
                    <a:moveTo>
                      <a:pt x="0" y="360363"/>
                    </a:moveTo>
                    <a:lnTo>
                      <a:pt x="0" y="162520"/>
                    </a:lnTo>
                    <a:cubicBezTo>
                      <a:pt x="0" y="92708"/>
                      <a:pt x="56593" y="36115"/>
                      <a:pt x="126405" y="36115"/>
                    </a:cubicBezTo>
                    <a:lnTo>
                      <a:pt x="216694" y="36116"/>
                    </a:lnTo>
                    <a:lnTo>
                      <a:pt x="216694" y="0"/>
                    </a:lnTo>
                    <a:lnTo>
                      <a:pt x="288925" y="72231"/>
                    </a:lnTo>
                    <a:lnTo>
                      <a:pt x="216694" y="144463"/>
                    </a:lnTo>
                    <a:lnTo>
                      <a:pt x="216694" y="108347"/>
                    </a:lnTo>
                    <a:lnTo>
                      <a:pt x="126405" y="108347"/>
                    </a:lnTo>
                    <a:cubicBezTo>
                      <a:pt x="96486" y="108347"/>
                      <a:pt x="72232" y="132601"/>
                      <a:pt x="72232" y="162520"/>
                    </a:cubicBezTo>
                    <a:cubicBezTo>
                      <a:pt x="72232" y="228468"/>
                      <a:pt x="72231" y="294415"/>
                      <a:pt x="72231" y="360363"/>
                    </a:cubicBez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曲折矢印 43"/>
              <p:cNvSpPr/>
              <p:nvPr/>
            </p:nvSpPr>
            <p:spPr>
              <a:xfrm flipH="1" rot="10800000">
                <a:off x="6948720" y="285264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7" h="358775">
                    <a:moveTo>
                      <a:pt x="0" y="358775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5503" y="35917"/>
                    </a:lnTo>
                    <a:lnTo>
                      <a:pt x="215503" y="0"/>
                    </a:lnTo>
                    <a:lnTo>
                      <a:pt x="287337" y="71834"/>
                    </a:lnTo>
                    <a:lnTo>
                      <a:pt x="215503" y="143669"/>
                    </a:lnTo>
                    <a:lnTo>
                      <a:pt x="215503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358775"/>
                    </a:ln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線コネクタ 46"/>
              <p:cNvSpPr/>
              <p:nvPr/>
            </p:nvSpPr>
            <p:spPr>
              <a:xfrm>
                <a:off x="1763640" y="1987560"/>
                <a:ext cx="7920" cy="14079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直線コネクタ 50"/>
              <p:cNvSpPr/>
              <p:nvPr/>
            </p:nvSpPr>
            <p:spPr>
              <a:xfrm>
                <a:off x="851040" y="1989000"/>
                <a:ext cx="0" cy="3092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グループ化 2"/>
              <p:cNvGrpSpPr/>
              <p:nvPr/>
            </p:nvGrpSpPr>
            <p:grpSpPr>
              <a:xfrm>
                <a:off x="95400" y="2306520"/>
                <a:ext cx="1530360" cy="850320"/>
                <a:chOff x="95400" y="2306520"/>
                <a:chExt cx="1530360" cy="850320"/>
              </a:xfrm>
            </p:grpSpPr>
            <p:sp>
              <p:nvSpPr>
                <p:cNvPr id="710" name="角丸四角形 13"/>
                <p:cNvSpPr/>
                <p:nvPr/>
              </p:nvSpPr>
              <p:spPr>
                <a:xfrm>
                  <a:off x="95400" y="2306520"/>
                  <a:ext cx="153036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肝細胞癌破裂による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腹腔内出血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曲折矢印 36"/>
                <p:cNvSpPr/>
                <p:nvPr/>
              </p:nvSpPr>
              <p:spPr>
                <a:xfrm flipH="1" rot="10800000">
                  <a:off x="177840" y="2796480"/>
                  <a:ext cx="277560" cy="360360"/>
                </a:xfrm>
                <a:custGeom>
                  <a:avLst/>
                  <a:gdLst/>
                  <a:ahLst/>
                  <a:rect l="l" t="t" r="r" b="b"/>
                  <a:pathLst>
                    <a:path w="287009" h="360419">
                      <a:moveTo>
                        <a:pt x="0" y="360419"/>
                      </a:moveTo>
                      <a:lnTo>
                        <a:pt x="0" y="161443"/>
                      </a:lnTo>
                      <a:cubicBezTo>
                        <a:pt x="0" y="92095"/>
                        <a:pt x="56218" y="35877"/>
                        <a:pt x="125566" y="35877"/>
                      </a:cubicBezTo>
                      <a:lnTo>
                        <a:pt x="215257" y="35876"/>
                      </a:lnTo>
                      <a:lnTo>
                        <a:pt x="215257" y="0"/>
                      </a:lnTo>
                      <a:lnTo>
                        <a:pt x="287009" y="71752"/>
                      </a:lnTo>
                      <a:lnTo>
                        <a:pt x="215257" y="143505"/>
                      </a:lnTo>
                      <a:lnTo>
                        <a:pt x="215257" y="107628"/>
                      </a:lnTo>
                      <a:lnTo>
                        <a:pt x="125566" y="107628"/>
                      </a:lnTo>
                      <a:cubicBezTo>
                        <a:pt x="95845" y="107628"/>
                        <a:pt x="71752" y="131721"/>
                        <a:pt x="71752" y="161442"/>
                      </a:cubicBezTo>
                      <a:lnTo>
                        <a:pt x="71752" y="360419"/>
                      </a:lnTo>
                      <a:lnTo>
                        <a:pt x="0" y="360419"/>
                      </a:lnTo>
                      <a:close/>
                    </a:path>
                  </a:pathLst>
                </a:custGeom>
                <a:solidFill>
                  <a:srgbClr val="4f6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曲折矢印 36"/>
              <p:cNvSpPr/>
              <p:nvPr/>
            </p:nvSpPr>
            <p:spPr>
              <a:xfrm flipH="1" rot="10800000">
                <a:off x="826920" y="3295440"/>
                <a:ext cx="279360" cy="360360"/>
              </a:xfrm>
              <a:custGeom>
                <a:avLst/>
                <a:gdLst/>
                <a:ahLst/>
                <a:rect l="l" t="t" r="r" b="b"/>
                <a:pathLst>
                  <a:path w="279400" h="360363">
                    <a:moveTo>
                      <a:pt x="0" y="360363"/>
                    </a:moveTo>
                    <a:lnTo>
                      <a:pt x="0" y="157163"/>
                    </a:lnTo>
                    <a:cubicBezTo>
                      <a:pt x="0" y="89653"/>
                      <a:pt x="54728" y="34925"/>
                      <a:pt x="122238" y="34925"/>
                    </a:cubicBezTo>
                    <a:lnTo>
                      <a:pt x="209550" y="34925"/>
                    </a:lnTo>
                    <a:lnTo>
                      <a:pt x="209550" y="0"/>
                    </a:lnTo>
                    <a:lnTo>
                      <a:pt x="279400" y="69850"/>
                    </a:lnTo>
                    <a:lnTo>
                      <a:pt x="209550" y="139700"/>
                    </a:lnTo>
                    <a:lnTo>
                      <a:pt x="209550" y="104775"/>
                    </a:lnTo>
                    <a:lnTo>
                      <a:pt x="122238" y="104775"/>
                    </a:lnTo>
                    <a:cubicBezTo>
                      <a:pt x="93305" y="104775"/>
                      <a:pt x="69850" y="128230"/>
                      <a:pt x="69850" y="157163"/>
                    </a:cubicBezTo>
                    <a:lnTo>
                      <a:pt x="69850" y="360363"/>
                    </a:ln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角丸四角形 13"/>
              <p:cNvSpPr/>
              <p:nvPr/>
            </p:nvSpPr>
            <p:spPr>
              <a:xfrm>
                <a:off x="1987560" y="2324160"/>
                <a:ext cx="1828800" cy="61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術後腫瘍マーカー高値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遷延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施行したところ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角丸四角形 9"/>
              <p:cNvSpPr/>
              <p:nvPr/>
            </p:nvSpPr>
            <p:spPr>
              <a:xfrm>
                <a:off x="3521160" y="455652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角丸四角形 9"/>
              <p:cNvSpPr/>
              <p:nvPr/>
            </p:nvSpPr>
            <p:spPr>
              <a:xfrm>
                <a:off x="5435640" y="3068640"/>
                <a:ext cx="928440" cy="35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治療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角丸四角形 9"/>
              <p:cNvSpPr/>
              <p:nvPr/>
            </p:nvSpPr>
            <p:spPr>
              <a:xfrm>
                <a:off x="7236000" y="299736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角丸四角形 9"/>
              <p:cNvSpPr/>
              <p:nvPr/>
            </p:nvSpPr>
            <p:spPr>
              <a:xfrm>
                <a:off x="6012000" y="3573720"/>
                <a:ext cx="8888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直線コネクタ 78"/>
              <p:cNvSpPr/>
              <p:nvPr/>
            </p:nvSpPr>
            <p:spPr>
              <a:xfrm>
                <a:off x="8210520" y="2000160"/>
                <a:ext cx="0" cy="157320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グループ化 2"/>
              <p:cNvGrpSpPr/>
              <p:nvPr/>
            </p:nvGrpSpPr>
            <p:grpSpPr>
              <a:xfrm>
                <a:off x="587520" y="1657440"/>
                <a:ext cx="7945560" cy="307080"/>
                <a:chOff x="587520" y="1657440"/>
                <a:chExt cx="7945560" cy="307080"/>
              </a:xfrm>
            </p:grpSpPr>
            <p:sp>
              <p:nvSpPr>
                <p:cNvPr id="720" name="テキスト ボックス 30"/>
                <p:cNvSpPr/>
                <p:nvPr/>
              </p:nvSpPr>
              <p:spPr>
                <a:xfrm>
                  <a:off x="4500720" y="165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0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テキスト ボックス 31"/>
                <p:cNvSpPr/>
                <p:nvPr/>
              </p:nvSpPr>
              <p:spPr>
                <a:xfrm>
                  <a:off x="55803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テキスト ボックス 32"/>
                <p:cNvSpPr/>
                <p:nvPr/>
              </p:nvSpPr>
              <p:spPr>
                <a:xfrm>
                  <a:off x="68709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5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テキスト ボックス 34"/>
                <p:cNvSpPr/>
                <p:nvPr/>
              </p:nvSpPr>
              <p:spPr>
                <a:xfrm>
                  <a:off x="6228000" y="1657440"/>
                  <a:ext cx="504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2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テキスト ボックス 15"/>
                <p:cNvSpPr/>
                <p:nvPr/>
              </p:nvSpPr>
              <p:spPr>
                <a:xfrm>
                  <a:off x="154800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テキスト ボックス 16"/>
                <p:cNvSpPr/>
                <p:nvPr/>
              </p:nvSpPr>
              <p:spPr>
                <a:xfrm>
                  <a:off x="2603520" y="1657440"/>
                  <a:ext cx="660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4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テキスト ボックス 73"/>
                <p:cNvSpPr/>
                <p:nvPr/>
              </p:nvSpPr>
              <p:spPr>
                <a:xfrm>
                  <a:off x="3683160" y="1657440"/>
                  <a:ext cx="94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6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テキスト ボックス 15"/>
                <p:cNvSpPr/>
                <p:nvPr/>
              </p:nvSpPr>
              <p:spPr>
                <a:xfrm>
                  <a:off x="5875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テキスト ボックス 32"/>
                <p:cNvSpPr/>
                <p:nvPr/>
              </p:nvSpPr>
              <p:spPr>
                <a:xfrm>
                  <a:off x="74329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７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テキスト ボックス 32"/>
                <p:cNvSpPr/>
                <p:nvPr/>
              </p:nvSpPr>
              <p:spPr>
                <a:xfrm>
                  <a:off x="795708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曲折矢印 43"/>
              <p:cNvSpPr/>
              <p:nvPr/>
            </p:nvSpPr>
            <p:spPr>
              <a:xfrm flipH="1" rot="10800000">
                <a:off x="7524720" y="343872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8" h="358775">
                    <a:moveTo>
                      <a:pt x="0" y="358775"/>
                    </a:moveTo>
                    <a:lnTo>
                      <a:pt x="0" y="161628"/>
                    </a:lnTo>
                    <a:cubicBezTo>
                      <a:pt x="0" y="92200"/>
                      <a:pt x="56282" y="35918"/>
                      <a:pt x="125710" y="35918"/>
                    </a:cubicBezTo>
                    <a:lnTo>
                      <a:pt x="215504" y="35917"/>
                    </a:lnTo>
                    <a:lnTo>
                      <a:pt x="215504" y="0"/>
                    </a:lnTo>
                    <a:lnTo>
                      <a:pt x="287338" y="71835"/>
                    </a:lnTo>
                    <a:lnTo>
                      <a:pt x="215504" y="143669"/>
                    </a:lnTo>
                    <a:lnTo>
                      <a:pt x="215504" y="107752"/>
                    </a:lnTo>
                    <a:lnTo>
                      <a:pt x="125710" y="107752"/>
                    </a:lnTo>
                    <a:cubicBezTo>
                      <a:pt x="95955" y="107752"/>
                      <a:pt x="71834" y="131873"/>
                      <a:pt x="71834" y="161628"/>
                    </a:cubicBezTo>
                    <a:cubicBezTo>
                      <a:pt x="71834" y="227344"/>
                      <a:pt x="71835" y="293059"/>
                      <a:pt x="71835" y="358775"/>
                    </a:cubicBez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テキスト ボックス 56"/>
          <p:cNvSpPr/>
          <p:nvPr/>
        </p:nvSpPr>
        <p:spPr>
          <a:xfrm>
            <a:off x="7755120" y="1314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56"/>
          <p:cNvSpPr/>
          <p:nvPr/>
        </p:nvSpPr>
        <p:spPr>
          <a:xfrm>
            <a:off x="610884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グループ化 8"/>
          <p:cNvGrpSpPr/>
          <p:nvPr/>
        </p:nvGrpSpPr>
        <p:grpSpPr>
          <a:xfrm>
            <a:off x="415800" y="4287960"/>
            <a:ext cx="2919600" cy="1919160"/>
            <a:chOff x="415800" y="4287960"/>
            <a:chExt cx="2919600" cy="1919160"/>
          </a:xfrm>
        </p:grpSpPr>
        <p:pic>
          <p:nvPicPr>
            <p:cNvPr id="734" name="図 2" descr=""/>
            <p:cNvPicPr/>
            <p:nvPr/>
          </p:nvPicPr>
          <p:blipFill>
            <a:blip r:embed="rId1"/>
            <a:srcRect l="13723" t="11470" r="13496" b="14124"/>
            <a:stretch/>
          </p:blipFill>
          <p:spPr>
            <a:xfrm>
              <a:off x="415800" y="4287960"/>
              <a:ext cx="1878120" cy="1919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5" name="直線矢印コネクタ 6"/>
            <p:cNvCxnSpPr/>
            <p:nvPr/>
          </p:nvCxnSpPr>
          <p:spPr>
            <a:xfrm flipH="1">
              <a:off x="1582200" y="5732640"/>
              <a:ext cx="829440" cy="17352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36" name="テキスト ボックス 10"/>
            <p:cNvSpPr/>
            <p:nvPr/>
          </p:nvSpPr>
          <p:spPr>
            <a:xfrm>
              <a:off x="2446560" y="559440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出血部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7" name="図 2" descr=""/>
          <p:cNvPicPr/>
          <p:nvPr/>
        </p:nvPicPr>
        <p:blipFill>
          <a:blip r:embed="rId2"/>
          <a:stretch/>
        </p:blipFill>
        <p:spPr>
          <a:xfrm>
            <a:off x="6480000" y="4295880"/>
            <a:ext cx="22561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グループ化 15"/>
          <p:cNvGrpSpPr/>
          <p:nvPr/>
        </p:nvGrpSpPr>
        <p:grpSpPr>
          <a:xfrm>
            <a:off x="1403280" y="1068480"/>
            <a:ext cx="2664000" cy="5673600"/>
            <a:chOff x="1403280" y="1068480"/>
            <a:chExt cx="2664000" cy="5673600"/>
          </a:xfrm>
        </p:grpSpPr>
        <p:pic>
          <p:nvPicPr>
            <p:cNvPr id="739" name="Picture 3" descr="C:\Users\p039eb\Desktop\ポリクリ\全身図：前.png"/>
            <p:cNvPicPr/>
            <p:nvPr/>
          </p:nvPicPr>
          <p:blipFill>
            <a:blip r:embed="rId1"/>
            <a:stretch/>
          </p:blipFill>
          <p:spPr>
            <a:xfrm>
              <a:off x="1403280" y="1068480"/>
              <a:ext cx="2664000" cy="56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直線コネクタ 14"/>
            <p:cNvSpPr/>
            <p:nvPr/>
          </p:nvSpPr>
          <p:spPr>
            <a:xfrm>
              <a:off x="2776680" y="3141720"/>
              <a:ext cx="0" cy="2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4"/>
          <p:cNvSpPr/>
          <p:nvPr/>
        </p:nvSpPr>
        <p:spPr>
          <a:xfrm>
            <a:off x="5014800" y="1197000"/>
            <a:ext cx="4116600" cy="4512960"/>
          </a:xfrm>
          <a:custGeom>
            <a:avLst/>
            <a:gdLst>
              <a:gd name="textAreaLeft" fmla="*/ 200880 w 4116600"/>
              <a:gd name="textAreaRight" fmla="*/ 3915720 w 4116600"/>
              <a:gd name="textAreaTop" fmla="*/ 200880 h 4512960"/>
              <a:gd name="textAreaBottom" fmla="*/ 4312080 h 4512960"/>
            </a:gdLst>
            <a:ahLst/>
            <a:rect l="textAreaLeft" t="textAreaTop" r="textAreaRight" b="textAreaBottom"/>
            <a:pathLst>
              <a:path w="21600" h="23680">
                <a:moveTo>
                  <a:pt x="3600" y="0"/>
                </a:moveTo>
                <a:arcTo wR="3600" hR="3600" stAng="16200000" swAng="-5400000"/>
                <a:lnTo>
                  <a:pt x="0" y="20080"/>
                </a:lnTo>
                <a:arcTo wR="3600" hR="3600" stAng="10800000" swAng="-5400000"/>
                <a:lnTo>
                  <a:pt x="18000" y="23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KT: 37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℃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, SpO2: 9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下腿浮腫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すべきこと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糖尿病、胃潰瘍、脂質異常症、過活動性膀胱、内痔核、左緑内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ope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19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にて肝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切除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20mg)1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トリメブチンマレイン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100m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メコバラミン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500u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水和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)3T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酪酸塩配合剤散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プレカバリン口腔内崩壊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ca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就寝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酸化マグネシウム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0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ジメモルファンリン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エピナスチン塩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、夕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吹き出し 5"/>
          <p:cNvSpPr/>
          <p:nvPr/>
        </p:nvSpPr>
        <p:spPr>
          <a:xfrm>
            <a:off x="611280" y="981000"/>
            <a:ext cx="1728720" cy="854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R: 86, BP: 122/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吹き出し 27"/>
          <p:cNvSpPr/>
          <p:nvPr/>
        </p:nvSpPr>
        <p:spPr>
          <a:xfrm>
            <a:off x="1042920" y="5603760"/>
            <a:ext cx="129708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点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正中部に手術痕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＋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2019</a:t>
            </a:r>
            <a:r>
              <a:rPr b="1" lang="ja-JP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年</a:t>
            </a: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3/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腹腔鏡下肝部分切除術（</a:t>
            </a:r>
            <a:r>
              <a:rPr b="1" lang="en-US" sz="1300" spc="-1" strike="noStrike">
                <a:solidFill>
                  <a:srgbClr val="ff0000"/>
                </a:solidFill>
                <a:latin typeface="ＭＳ Ｐゴシック"/>
              </a:rPr>
              <a:t>S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角丸四角形吹き出し 17"/>
          <p:cNvSpPr/>
          <p:nvPr/>
        </p:nvSpPr>
        <p:spPr>
          <a:xfrm>
            <a:off x="3635280" y="4595760"/>
            <a:ext cx="122400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角丸四角形 27"/>
          <p:cNvSpPr/>
          <p:nvPr/>
        </p:nvSpPr>
        <p:spPr>
          <a:xfrm>
            <a:off x="689040" y="4481640"/>
            <a:ext cx="4292640" cy="1363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肝動注と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同時に行う予定であったが、術中に、腫瘍内動静脈シャントがあることが分かったた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）右肝動注のみを実施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は行わなか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グループ化 2"/>
          <p:cNvGrpSpPr/>
          <p:nvPr/>
        </p:nvGrpSpPr>
        <p:grpSpPr>
          <a:xfrm>
            <a:off x="371520" y="1044720"/>
            <a:ext cx="4292640" cy="2908080"/>
            <a:chOff x="371520" y="1044720"/>
            <a:chExt cx="4292640" cy="2908080"/>
          </a:xfrm>
        </p:grpSpPr>
        <p:pic>
          <p:nvPicPr>
            <p:cNvPr id="752" name="図 5" descr=""/>
            <p:cNvPicPr/>
            <p:nvPr/>
          </p:nvPicPr>
          <p:blipFill>
            <a:blip r:embed="rId1"/>
            <a:srcRect l="14565" t="31619" r="33462" b="5753"/>
            <a:stretch/>
          </p:blipFill>
          <p:spPr>
            <a:xfrm>
              <a:off x="371520" y="1044720"/>
              <a:ext cx="429264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楕円 1"/>
            <p:cNvSpPr/>
            <p:nvPr/>
          </p:nvSpPr>
          <p:spPr>
            <a:xfrm>
              <a:off x="1935000" y="1811160"/>
              <a:ext cx="287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楕円 12"/>
            <p:cNvSpPr/>
            <p:nvPr/>
          </p:nvSpPr>
          <p:spPr>
            <a:xfrm>
              <a:off x="2654280" y="21448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楕円 13"/>
            <p:cNvSpPr/>
            <p:nvPr/>
          </p:nvSpPr>
          <p:spPr>
            <a:xfrm>
              <a:off x="2583000" y="145080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楕円 14"/>
            <p:cNvSpPr/>
            <p:nvPr/>
          </p:nvSpPr>
          <p:spPr>
            <a:xfrm>
              <a:off x="2470320" y="3078360"/>
              <a:ext cx="647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グループ化 7"/>
          <p:cNvGrpSpPr/>
          <p:nvPr/>
        </p:nvGrpSpPr>
        <p:grpSpPr>
          <a:xfrm>
            <a:off x="5178600" y="1044720"/>
            <a:ext cx="3685680" cy="2518920"/>
            <a:chOff x="5178600" y="1044720"/>
            <a:chExt cx="3685680" cy="2518920"/>
          </a:xfrm>
        </p:grpSpPr>
        <p:pic>
          <p:nvPicPr>
            <p:cNvPr id="758" name="図 3" descr=""/>
            <p:cNvPicPr/>
            <p:nvPr/>
          </p:nvPicPr>
          <p:blipFill>
            <a:blip r:embed="rId2"/>
            <a:srcRect l="11786" t="0" r="0" b="10460"/>
            <a:stretch/>
          </p:blipFill>
          <p:spPr>
            <a:xfrm rot="5400000">
              <a:off x="5984280" y="667800"/>
              <a:ext cx="2447280" cy="33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テキスト ボックス 4"/>
            <p:cNvSpPr/>
            <p:nvPr/>
          </p:nvSpPr>
          <p:spPr>
            <a:xfrm>
              <a:off x="6165720" y="189756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テキスト ボックス 17"/>
            <p:cNvSpPr/>
            <p:nvPr/>
          </p:nvSpPr>
          <p:spPr>
            <a:xfrm>
              <a:off x="5546520" y="17089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テキスト ボックス 18"/>
            <p:cNvSpPr/>
            <p:nvPr/>
          </p:nvSpPr>
          <p:spPr>
            <a:xfrm>
              <a:off x="5522400" y="2430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テキスト ボックス 19"/>
            <p:cNvSpPr/>
            <p:nvPr/>
          </p:nvSpPr>
          <p:spPr>
            <a:xfrm>
              <a:off x="6472440" y="28144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テキスト ボックス 20"/>
            <p:cNvSpPr/>
            <p:nvPr/>
          </p:nvSpPr>
          <p:spPr>
            <a:xfrm>
              <a:off x="6349680" y="1044720"/>
              <a:ext cx="17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Arial"/>
                </a:rPr>
                <a:t>腫瘍内シャン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テキスト ボックス 22"/>
            <p:cNvSpPr/>
            <p:nvPr/>
          </p:nvSpPr>
          <p:spPr>
            <a:xfrm>
              <a:off x="5178600" y="3287160"/>
              <a:ext cx="110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S6</a:t>
              </a:r>
              <a:r>
                <a:rPr b="0" lang="ja-JP" sz="1200" spc="-1" strike="noStrike">
                  <a:solidFill>
                    <a:srgbClr val="003300"/>
                  </a:solidFill>
                  <a:latin typeface="Arial"/>
                </a:rPr>
                <a:t>切除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グループ化 3"/>
          <p:cNvGrpSpPr/>
          <p:nvPr/>
        </p:nvGrpSpPr>
        <p:grpSpPr>
          <a:xfrm>
            <a:off x="5580000" y="3754440"/>
            <a:ext cx="2925720" cy="2448000"/>
            <a:chOff x="5580000" y="3754440"/>
            <a:chExt cx="2925720" cy="2448000"/>
          </a:xfrm>
        </p:grpSpPr>
        <p:grpSp>
          <p:nvGrpSpPr>
            <p:cNvPr id="766" name="グループ化 1"/>
            <p:cNvGrpSpPr/>
            <p:nvPr/>
          </p:nvGrpSpPr>
          <p:grpSpPr>
            <a:xfrm>
              <a:off x="5580000" y="3754440"/>
              <a:ext cx="2925720" cy="2448000"/>
              <a:chOff x="5580000" y="3754440"/>
              <a:chExt cx="2925720" cy="2448000"/>
            </a:xfrm>
          </p:grpSpPr>
          <p:pic>
            <p:nvPicPr>
              <p:cNvPr id="767" name="図 2" descr=""/>
              <p:cNvPicPr/>
              <p:nvPr/>
            </p:nvPicPr>
            <p:blipFill>
              <a:blip r:embed="rId3"/>
              <a:srcRect l="0" t="12466" r="0" b="12466"/>
              <a:stretch/>
            </p:blipFill>
            <p:spPr>
              <a:xfrm>
                <a:off x="5580000" y="3754440"/>
                <a:ext cx="2925720" cy="2448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68" name="直線矢印コネクタ 10"/>
              <p:cNvCxnSpPr/>
              <p:nvPr/>
            </p:nvCxnSpPr>
            <p:spPr>
              <a:xfrm flipH="1" flipV="1">
                <a:off x="6476040" y="4407840"/>
                <a:ext cx="224280" cy="430920"/>
              </a:xfrm>
              <a:prstGeom prst="straightConnector1">
                <a:avLst/>
              </a:prstGeom>
              <a:ln w="28440">
                <a:solidFill>
                  <a:srgbClr val="1f497d"/>
                </a:solidFill>
                <a:miter/>
                <a:tailEnd len="med" type="triangle" w="med"/>
              </a:ln>
            </p:spPr>
          </p:cxnSp>
        </p:grpSp>
        <p:sp>
          <p:nvSpPr>
            <p:cNvPr id="769" name="テキスト ボックス 2"/>
            <p:cNvSpPr/>
            <p:nvPr/>
          </p:nvSpPr>
          <p:spPr>
            <a:xfrm>
              <a:off x="6545880" y="4793760"/>
              <a:ext cx="126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肝静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8:50:12Z</dcterms:modified>
  <cp:revision>112</cp:revision>
  <dc:subject/>
  <dc:title>肝胆膵病態学総論</dc:title>
</cp:coreProperties>
</file>