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C528-AA49-48A2-9C6B-C331D7A1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29B-74CA-4C50-A66D-424F4BF769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ED80-9301-4662-B0F6-AB79ECFDA5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362-B287-412D-B577-FA158B93C7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472F3-F697-4E27-AF6B-25FAD96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58E84-D169-4E16-8C1A-1520DFB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7499E-B081-4917-AF6A-3642772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3E0E7-556D-41BD-8B98-845BB40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5B063-81CB-460C-BB6E-1287C63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A16A5-206B-4144-822D-05A358E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C0F75-B784-4939-9C0C-D6E0781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C2823-D46B-4B60-8A0A-6C65EECD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9A4BE-89A1-467D-938E-F26E350E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128F9-7D56-45F1-BCF3-BDDB39A2F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222F06-A611-49A6-A8D7-3B89B69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50A8B-9D4E-46D9-B90B-3083F51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1885A-2AF8-4A73-842B-B8AC605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ACD68-FBEB-417B-86AB-5A485A43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FA0A43-D980-446F-9DCD-15F0FFF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F1004-3D1B-42CC-BF55-CAA4F237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F8EDE-0512-4CB9-99C7-7BBDE61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F22C0-A844-4318-B77A-2B85125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7269D-123C-4AD3-8B2E-37D526C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C16BA-8E52-4A8B-935F-B6AFBE4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08E0E-0FC4-4DD0-A3B8-5816E0C8F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617F-B299-4469-9149-E8C65D69F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99D1-254A-4E2F-8AB4-F931C0BA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BEBC-213B-4C77-BF10-D1508B15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371C-B9C3-494A-BD63-70374E3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627D-3679-44D5-A965-F989896C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7C83-AE03-4CA9-8646-0E598C6F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FD35A-D7DD-4F5D-9197-3EA55EDF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8505-5B53-4BAA-A98A-B80757E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1796-C573-4C89-89D8-C70287D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3C95-E44E-49B2-B294-6381AF9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BA3C-6F5B-4915-AF6E-C8C9DB3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4F30-8FEC-45BE-B103-321779B83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FB13-47A2-491A-9733-A576ED82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E127-472B-4BFA-B50B-63255356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210C-FD08-40F6-995A-C1771AD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372FA-5795-4DAA-B94E-B96DF64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4CD9F-AC32-43C7-86F5-10D6C06F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1474-3C30-4B2F-A445-D6FFC5D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61BC-F779-4A43-945B-E11C0C1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AA55-ECF4-44A7-A3FE-508B08F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5660-241C-4C32-AD98-7132DFD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BE80-0B71-457C-8DDB-03AD78AF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0DE2-904A-4970-A3DC-5FFAEBDA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2B3F-C79D-4B24-B6DD-663958E2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3FD40-4A89-4DA6-924A-8CD6314E4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83867-9B98-4B33-ADBC-FA4F71D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2C647-5048-4910-9C26-6DBE4A6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93727-018A-4E4B-9EE4-4A699C7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D477B-8D32-429F-9CB8-CA0EC3B8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0CB40-7D5E-47AA-B200-F566E194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4A1549-89EB-450E-B68D-9D0725C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C523A-4D03-47A1-9743-9D23677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B3ADE-0629-4A61-AFB3-7B8FE0D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2B48A-9CF6-46E7-9B87-B206BD7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6B9C1-E5C4-4CFC-89A9-186DF544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4C18F-AD19-40A0-BE91-B3F644D69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A6E1-078A-43B9-A284-43FB3BE80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6F9F-A93D-4276-BFA3-E9ADFB6A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107B-2075-4749-8A43-06DB2D64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0D53-908A-435C-AAEA-B605BB1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4F28-50C3-4559-88DE-C20BB0E0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9D89-B667-402C-99F2-219D07A5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AC5C-316F-44ED-9EFB-1FDAAAE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8C3B-8256-42DD-9BBC-FAF41BF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55B3-67A5-4C99-89AF-1CB1B13D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3498-143B-4A2A-AA8E-2A11CEC5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F9B4-F2F8-4A19-8B33-5536819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5E9E-79CA-4D94-A75C-DD424DA0B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D581F-EFF7-4ACB-8D47-C46C167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9DC15-88B0-460D-B12D-481B1621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10BE6-1278-488F-A007-2DEE896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A8743-0469-408E-9A5F-B18C5B4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A8784-15E4-4155-B7E9-5FF6C3A8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2C62-5230-4F7A-A40F-F1A741AC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F932-387F-4F6F-A9EA-3257695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AAA2-B858-4035-9FBD-2B710F3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60DFF-AB7D-4C16-8F93-FFA08EA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0E5ED-ECB1-4D5A-8AAE-DEB4E4D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0E26-2AED-4ED8-A1F5-517CD33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A533-8A4A-4F04-8AB3-67B7FBA2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5D702-5563-43F1-9D0A-9156FA3F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C1BAF-1E39-475F-8B2E-169B367A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43ACA-07A7-4F1B-9205-45BA137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F4C16-3B1A-478A-980F-22D17A7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0E85F-BF97-452A-9A63-B45B9F4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9BDD8-1659-4F60-9024-F9942FD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D489F-B8E5-45F2-8645-36B94BC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F9487-F932-4A6B-88B9-9D7BD92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10618-722E-4720-BA61-2625DCF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6A054-6C77-42C4-A9AE-833ED4A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8528F-C793-4D40-9B04-6A5B6DCD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22042-FBC1-45DC-8FB8-181CBF31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968B5-E397-4927-927A-36984119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BB98C-F2E4-46AF-81A3-BDAD282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60ED1-FCB4-4410-8418-A5755C1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0B855-9E1E-4486-BCEA-103D5C8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B0563-178A-4FDE-BF0A-A819333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812CB-1A10-4285-B120-34204C2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79A74-569E-44DC-A41C-7470A42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F4DEF-0679-4C1D-A570-51BFB19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07D22-48B4-4383-81CE-931134A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57647-4B31-4733-B3E9-447C8CF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14B73-773F-4992-AB74-F7D170E1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C3F41-A01D-4774-B965-6C44ED43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03291-BE85-4FCE-95A7-D3C6B9ED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4FE46-4C4D-4A39-B590-3071F39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82617-0F64-4A96-B5E8-50690EC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45A-05B9-4BF3-914F-EE8D24D60504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7076-FBFF-4B8C-8EA7-336D6FF8F38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357-3D86-4D6E-9308-8073C8C20B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AB48-78B5-48E9-9A9A-FA50DB6F9D7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1992-C43A-4744-8E37-434229E0EA60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8FF-047D-47B8-8737-E7A35D5F78A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1DD-1303-4BF3-89A8-D8C8C747D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66DC-2F61-4C57-A8C3-263556F39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6165-5C45-4D6D-A9B1-D81622664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0DB-42AD-4301-AC7C-94C68D435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B28-2BF9-431B-8BA0-238F312E9E9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3560" y="2060280"/>
            <a:ext cx="7616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3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歳 女性 治療が難航す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CC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の一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角丸四角形吹き出し 5"/>
          <p:cNvSpPr/>
          <p:nvPr/>
        </p:nvSpPr>
        <p:spPr>
          <a:xfrm>
            <a:off x="8043840" y="1424160"/>
            <a:ext cx="1027080" cy="439560"/>
          </a:xfrm>
          <a:prstGeom prst="wedgeRoundRectCallout">
            <a:avLst>
              <a:gd name="adj1" fmla="val -74490"/>
              <a:gd name="adj2" fmla="val 5592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角丸四角形吹き出し 5"/>
          <p:cNvSpPr/>
          <p:nvPr/>
        </p:nvSpPr>
        <p:spPr>
          <a:xfrm>
            <a:off x="6143760" y="1432080"/>
            <a:ext cx="1028520" cy="439560"/>
          </a:xfrm>
          <a:prstGeom prst="wedgeRoundRectCallout">
            <a:avLst>
              <a:gd name="adj1" fmla="val 76074"/>
              <a:gd name="adj2" fmla="val 5779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角丸四角形吹き出し 5"/>
          <p:cNvSpPr/>
          <p:nvPr/>
        </p:nvSpPr>
        <p:spPr>
          <a:xfrm>
            <a:off x="4341960" y="1427040"/>
            <a:ext cx="1027080" cy="438120"/>
          </a:xfrm>
          <a:prstGeom prst="wedgeRoundRectCallout">
            <a:avLst>
              <a:gd name="adj1" fmla="val 90490"/>
              <a:gd name="adj2" fmla="val 5967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グループ化 29"/>
          <p:cNvGrpSpPr/>
          <p:nvPr/>
        </p:nvGrpSpPr>
        <p:grpSpPr>
          <a:xfrm>
            <a:off x="231840" y="1384200"/>
            <a:ext cx="8592840" cy="4729680"/>
            <a:chOff x="231840" y="1384200"/>
            <a:chExt cx="8592840" cy="4729680"/>
          </a:xfrm>
        </p:grpSpPr>
        <p:sp>
          <p:nvSpPr>
            <p:cNvPr id="637" name="テキスト ボックス 50"/>
            <p:cNvSpPr/>
            <p:nvPr/>
          </p:nvSpPr>
          <p:spPr>
            <a:xfrm>
              <a:off x="231840" y="2166840"/>
              <a:ext cx="4610160" cy="3947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テキスト ボックス 60"/>
            <p:cNvSpPr/>
            <p:nvPr/>
          </p:nvSpPr>
          <p:spPr>
            <a:xfrm>
              <a:off x="4889520" y="2085840"/>
              <a:ext cx="3906720" cy="3943080"/>
            </a:xfrm>
            <a:custGeom>
              <a:avLst/>
              <a:gdLst>
                <a:gd name="textAreaLeft" fmla="*/ 190440 w 3906720"/>
                <a:gd name="textAreaRight" fmla="*/ 3716280 w 3906720"/>
                <a:gd name="textAreaTop" fmla="*/ 190440 h 3943080"/>
                <a:gd name="textAreaBottom" fmla="*/ 3752640 h 3943080"/>
              </a:gdLst>
              <a:ahLst/>
              <a:rect l="textAreaLeft" t="textAreaTop" r="textAreaRight" b="textAreaBottom"/>
              <a:pathLst>
                <a:path w="21600" h="21801">
                  <a:moveTo>
                    <a:pt x="3600" y="0"/>
                  </a:moveTo>
                  <a:arcTo wR="3600" hR="3600" stAng="16200000" swAng="-5400000"/>
                  <a:lnTo>
                    <a:pt x="0" y="18201"/>
                  </a:lnTo>
                  <a:arcTo wR="3600" hR="3600" stAng="10800000" swAng="-5400000"/>
                  <a:lnTo>
                    <a:pt x="18000" y="21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テキスト ボックス 14"/>
            <p:cNvSpPr/>
            <p:nvPr/>
          </p:nvSpPr>
          <p:spPr>
            <a:xfrm>
              <a:off x="1972080" y="138420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019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テキスト ボックス 26"/>
            <p:cNvSpPr/>
            <p:nvPr/>
          </p:nvSpPr>
          <p:spPr>
            <a:xfrm>
              <a:off x="1985400" y="1608480"/>
              <a:ext cx="5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直線矢印コネクタ 4"/>
            <p:cNvCxnSpPr/>
            <p:nvPr/>
          </p:nvCxnSpPr>
          <p:spPr>
            <a:xfrm>
              <a:off x="328320" y="1976040"/>
              <a:ext cx="8496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2" name="角丸四角形 9"/>
            <p:cNvSpPr/>
            <p:nvPr/>
          </p:nvSpPr>
          <p:spPr>
            <a:xfrm>
              <a:off x="615960" y="2207880"/>
              <a:ext cx="2313000" cy="94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HBV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キャリアとして新潟市民病院受診。肝硬変に対してエンテカビル内服を開始し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直線コネクタ 46"/>
          <p:cNvSpPr/>
          <p:nvPr/>
        </p:nvSpPr>
        <p:spPr>
          <a:xfrm>
            <a:off x="2021040" y="1960560"/>
            <a:ext cx="0" cy="247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テキスト ボックス 3"/>
          <p:cNvSpPr/>
          <p:nvPr/>
        </p:nvSpPr>
        <p:spPr>
          <a:xfrm>
            <a:off x="762840" y="905040"/>
            <a:ext cx="310932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 女性 治療が難航す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一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角丸四角形 47"/>
          <p:cNvSpPr/>
          <p:nvPr/>
        </p:nvSpPr>
        <p:spPr>
          <a:xfrm>
            <a:off x="625320" y="3489480"/>
            <a:ext cx="2337120" cy="133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佐渡病院でフォローしていたが、高度肥満と造影剤アレルギーにより画像評価が難渋してい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バラクルードからベムルディ（テノボビル）に薬剤を変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14"/>
          <p:cNvSpPr/>
          <p:nvPr/>
        </p:nvSpPr>
        <p:spPr>
          <a:xfrm>
            <a:off x="436680" y="14000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14"/>
          <p:cNvSpPr/>
          <p:nvPr/>
        </p:nvSpPr>
        <p:spPr>
          <a:xfrm>
            <a:off x="3447720" y="14079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26"/>
          <p:cNvSpPr/>
          <p:nvPr/>
        </p:nvSpPr>
        <p:spPr>
          <a:xfrm>
            <a:off x="3398760" y="1619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6"/>
          <p:cNvSpPr/>
          <p:nvPr/>
        </p:nvSpPr>
        <p:spPr>
          <a:xfrm>
            <a:off x="5272200" y="1616040"/>
            <a:ext cx="10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14"/>
          <p:cNvSpPr/>
          <p:nvPr/>
        </p:nvSpPr>
        <p:spPr>
          <a:xfrm>
            <a:off x="7236000" y="1395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26"/>
          <p:cNvSpPr/>
          <p:nvPr/>
        </p:nvSpPr>
        <p:spPr>
          <a:xfrm>
            <a:off x="7167600" y="1616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線コネクタ 69"/>
          <p:cNvSpPr/>
          <p:nvPr/>
        </p:nvSpPr>
        <p:spPr>
          <a:xfrm flipH="1">
            <a:off x="7620120" y="1998720"/>
            <a:ext cx="2880" cy="860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線コネクタ 49"/>
          <p:cNvSpPr/>
          <p:nvPr/>
        </p:nvSpPr>
        <p:spPr>
          <a:xfrm flipH="1">
            <a:off x="7921800" y="1979640"/>
            <a:ext cx="33120" cy="1238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角丸四角形 47"/>
          <p:cNvSpPr/>
          <p:nvPr/>
        </p:nvSpPr>
        <p:spPr>
          <a:xfrm>
            <a:off x="6840360" y="3224160"/>
            <a:ext cx="1793880" cy="6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残存病変に対して当院放射線科で治療を行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角丸四角形 47"/>
          <p:cNvSpPr/>
          <p:nvPr/>
        </p:nvSpPr>
        <p:spPr>
          <a:xfrm>
            <a:off x="6821640" y="2244600"/>
            <a:ext cx="179388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HAG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に造影される腫瘤を確認し、同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線コネクタ 52"/>
          <p:cNvSpPr/>
          <p:nvPr/>
        </p:nvSpPr>
        <p:spPr>
          <a:xfrm flipH="1">
            <a:off x="5823000" y="197964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角丸四角形 47"/>
          <p:cNvSpPr/>
          <p:nvPr/>
        </p:nvSpPr>
        <p:spPr>
          <a:xfrm>
            <a:off x="4938840" y="2697120"/>
            <a:ext cx="1793880" cy="11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外側区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3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は、カテーテルが先進せず処置を行わなか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線コネクタ 54"/>
          <p:cNvSpPr/>
          <p:nvPr/>
        </p:nvSpPr>
        <p:spPr>
          <a:xfrm flipH="1">
            <a:off x="3911760" y="197316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47"/>
          <p:cNvSpPr/>
          <p:nvPr/>
        </p:nvSpPr>
        <p:spPr>
          <a:xfrm>
            <a:off x="3048120" y="2166840"/>
            <a:ext cx="1793880" cy="168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血液検査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IVKA-Ⅱ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3.2m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その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7.6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と上昇傾向にあったた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ynamic 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撮影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ｃｍ、外側区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㎝の早期濃染を伴う腫瘤が指摘され、ＨＣＣが疑わ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48"/>
          <p:cNvSpPr/>
          <p:nvPr/>
        </p:nvSpPr>
        <p:spPr>
          <a:xfrm>
            <a:off x="2021040" y="3143160"/>
            <a:ext cx="0" cy="34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角丸四角形 35"/>
          <p:cNvSpPr/>
          <p:nvPr/>
        </p:nvSpPr>
        <p:spPr>
          <a:xfrm>
            <a:off x="682560" y="5097600"/>
            <a:ext cx="1913040" cy="65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入院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身長：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49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5.9k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BMI: 47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角丸四角形 35"/>
          <p:cNvSpPr/>
          <p:nvPr/>
        </p:nvSpPr>
        <p:spPr>
          <a:xfrm>
            <a:off x="5280120" y="2170080"/>
            <a:ext cx="1079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グループ化 2"/>
          <p:cNvGrpSpPr/>
          <p:nvPr/>
        </p:nvGrpSpPr>
        <p:grpSpPr>
          <a:xfrm>
            <a:off x="3314880" y="3959280"/>
            <a:ext cx="2566800" cy="2279520"/>
            <a:chOff x="3314880" y="3959280"/>
            <a:chExt cx="2566800" cy="2279520"/>
          </a:xfrm>
        </p:grpSpPr>
        <p:pic>
          <p:nvPicPr>
            <p:cNvPr id="665" name="図 5" descr=""/>
            <p:cNvPicPr/>
            <p:nvPr/>
          </p:nvPicPr>
          <p:blipFill>
            <a:blip r:embed="rId1"/>
            <a:srcRect l="30" t="14111" r="-25" b="14640"/>
            <a:stretch/>
          </p:blipFill>
          <p:spPr>
            <a:xfrm>
              <a:off x="3314880" y="3959280"/>
              <a:ext cx="2566800" cy="227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6" name="直線矢印コネクタ 37"/>
            <p:cNvCxnSpPr/>
            <p:nvPr/>
          </p:nvCxnSpPr>
          <p:spPr>
            <a:xfrm flipV="1">
              <a:off x="3911400" y="538596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67" name="グループ化 5"/>
          <p:cNvGrpSpPr/>
          <p:nvPr/>
        </p:nvGrpSpPr>
        <p:grpSpPr>
          <a:xfrm>
            <a:off x="6084720" y="3959280"/>
            <a:ext cx="2519640" cy="2278080"/>
            <a:chOff x="6084720" y="3959280"/>
            <a:chExt cx="2519640" cy="2278080"/>
          </a:xfrm>
        </p:grpSpPr>
        <p:pic>
          <p:nvPicPr>
            <p:cNvPr id="668" name="図 8" descr="写真, 本, テーブル, 食品 が含まれている画像&#10;&#10;自動的に生成された説明"/>
            <p:cNvPicPr/>
            <p:nvPr/>
          </p:nvPicPr>
          <p:blipFill>
            <a:blip r:embed="rId2"/>
            <a:srcRect l="0" t="13369" r="0" b="14203"/>
            <a:stretch/>
          </p:blipFill>
          <p:spPr>
            <a:xfrm>
              <a:off x="6084720" y="3959280"/>
              <a:ext cx="2519640" cy="227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9" name="直線矢印コネクタ 41"/>
            <p:cNvCxnSpPr/>
            <p:nvPr/>
          </p:nvCxnSpPr>
          <p:spPr>
            <a:xfrm flipV="1">
              <a:off x="7524360" y="482868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67000" y="858960"/>
            <a:ext cx="2412720" cy="5306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テキスト ボックス 4"/>
          <p:cNvSpPr/>
          <p:nvPr/>
        </p:nvSpPr>
        <p:spPr>
          <a:xfrm>
            <a:off x="5057640" y="635040"/>
            <a:ext cx="4032360" cy="43232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323240"/>
              <a:gd name="textAreaBottom" fmla="*/ 4126680 h 4323240"/>
            </a:gdLst>
            <a:ahLst/>
            <a:rect l="textAreaLeft" t="textAreaTop" r="textAreaRight" b="textAreaBottom"/>
            <a:pathLst>
              <a:path w="21600" h="23158">
                <a:moveTo>
                  <a:pt x="3600" y="0"/>
                </a:moveTo>
                <a:arcTo wR="3600" hR="3600" stAng="16200000" swAng="-5400000"/>
                <a:lnTo>
                  <a:pt x="0" y="19558"/>
                </a:lnTo>
                <a:arcTo wR="3600" hR="3600" stAng="10800000" swAng="-5400000"/>
                <a:lnTo>
                  <a:pt x="18000" y="23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T: 36.7℃, SpO2: 96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飲酒歴：なし、喫煙歴：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強直性脊椎炎、肝硬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肝細胞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輸血歴：なし、刺青：なし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当科にて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施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アレルギー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造影剤アレルギー（詳細不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テノボビ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5)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１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分岐鎖アミノ酸製剤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4.15) 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防風通聖散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.5)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３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ミノレバ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50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吹き出し 5"/>
          <p:cNvSpPr/>
          <p:nvPr/>
        </p:nvSpPr>
        <p:spPr>
          <a:xfrm>
            <a:off x="131760" y="896760"/>
            <a:ext cx="1727280" cy="935280"/>
          </a:xfrm>
          <a:prstGeom prst="wedgeRoundRectCallout">
            <a:avLst>
              <a:gd name="adj1" fmla="val 80078"/>
              <a:gd name="adj2" fmla="val -36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角丸四角形吹き出し 11"/>
          <p:cNvSpPr/>
          <p:nvPr/>
        </p:nvSpPr>
        <p:spPr>
          <a:xfrm>
            <a:off x="112680" y="1917720"/>
            <a:ext cx="2413080" cy="1224000"/>
          </a:xfrm>
          <a:prstGeom prst="wedgeRoundRectCallout">
            <a:avLst>
              <a:gd name="adj1" fmla="val 64898"/>
              <a:gd name="adj2" fmla="val -66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86, BP: 100/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角丸四角形吹き出し 12"/>
          <p:cNvSpPr/>
          <p:nvPr/>
        </p:nvSpPr>
        <p:spPr>
          <a:xfrm>
            <a:off x="3259080" y="1982880"/>
            <a:ext cx="1656000" cy="1657080"/>
          </a:xfrm>
          <a:prstGeom prst="wedgeRoundRectCallout">
            <a:avLst>
              <a:gd name="adj1" fmla="val -72638"/>
              <a:gd name="adj2" fmla="val 1775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吹き出し 27"/>
          <p:cNvSpPr/>
          <p:nvPr/>
        </p:nvSpPr>
        <p:spPr>
          <a:xfrm>
            <a:off x="3330720" y="5086440"/>
            <a:ext cx="1152360" cy="431640"/>
          </a:xfrm>
          <a:prstGeom prst="wedgeRoundRectCallout">
            <a:avLst>
              <a:gd name="adj1" fmla="val -56680"/>
              <a:gd name="adj2" fmla="val 85592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角丸四角形吹き出し 16"/>
          <p:cNvSpPr/>
          <p:nvPr/>
        </p:nvSpPr>
        <p:spPr>
          <a:xfrm>
            <a:off x="112680" y="3303720"/>
            <a:ext cx="2087640" cy="1606320"/>
          </a:xfrm>
          <a:prstGeom prst="wedgeRoundRectCallout">
            <a:avLst>
              <a:gd name="adj1" fmla="val 68981"/>
              <a:gd name="adj2" fmla="val -6300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点）脳症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総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 1.8m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角丸四角形吹き出し 17"/>
          <p:cNvSpPr/>
          <p:nvPr/>
        </p:nvSpPr>
        <p:spPr>
          <a:xfrm>
            <a:off x="3583080" y="3997440"/>
            <a:ext cx="1152360" cy="43164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18"/>
          <p:cNvSpPr/>
          <p:nvPr/>
        </p:nvSpPr>
        <p:spPr>
          <a:xfrm>
            <a:off x="112680" y="5072040"/>
            <a:ext cx="237636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検査所見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PT% 7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％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, 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AST 55 U/L, ALT 47 U/L, LD 215 U/L, ALP 121 U/L, γ-GTP 23 U/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19"/>
          <p:cNvSpPr/>
          <p:nvPr/>
        </p:nvSpPr>
        <p:spPr>
          <a:xfrm>
            <a:off x="5070600" y="5079960"/>
            <a:ext cx="402084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腫瘍マーカ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1/26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2/21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1/2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(ng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3%: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1%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 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VKAⅡ: 56.1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3.3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1.1(mAU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11"/>
          <p:cNvSpPr/>
          <p:nvPr/>
        </p:nvSpPr>
        <p:spPr>
          <a:xfrm>
            <a:off x="3479760" y="863640"/>
            <a:ext cx="1403280" cy="1058760"/>
          </a:xfrm>
          <a:prstGeom prst="wedgeRoundRectCallout">
            <a:avLst>
              <a:gd name="adj1" fmla="val 50217"/>
              <a:gd name="adj2" fmla="val -10268"/>
              <a:gd name="adj3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149cm,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05.9kg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ＭＳ Ｐゴシック"/>
              </a:rPr>
              <a:t>BMI: 4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図 3" descr="写真, 猫, 横たわる, 男 が含まれている画像&#10;&#10;自動的に生成された説明"/>
          <p:cNvPicPr/>
          <p:nvPr/>
        </p:nvPicPr>
        <p:blipFill>
          <a:blip r:embed="rId1"/>
          <a:srcRect l="0" t="4151" r="0" b="28394"/>
          <a:stretch/>
        </p:blipFill>
        <p:spPr>
          <a:xfrm>
            <a:off x="2786040" y="1069920"/>
            <a:ext cx="604044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83" name="グループ化 26"/>
          <p:cNvGrpSpPr/>
          <p:nvPr/>
        </p:nvGrpSpPr>
        <p:grpSpPr>
          <a:xfrm>
            <a:off x="368280" y="1028880"/>
            <a:ext cx="2001960" cy="3068280"/>
            <a:chOff x="368280" y="1028880"/>
            <a:chExt cx="2001960" cy="3068280"/>
          </a:xfrm>
        </p:grpSpPr>
        <p:sp>
          <p:nvSpPr>
            <p:cNvPr id="684" name="テキスト ボックス 17"/>
            <p:cNvSpPr/>
            <p:nvPr/>
          </p:nvSpPr>
          <p:spPr>
            <a:xfrm>
              <a:off x="371160" y="328464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に対し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テキスト ボックス 16"/>
            <p:cNvSpPr/>
            <p:nvPr/>
          </p:nvSpPr>
          <p:spPr>
            <a:xfrm>
              <a:off x="385560" y="223200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1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6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のみ当科に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テキスト ボックス 11"/>
            <p:cNvSpPr/>
            <p:nvPr/>
          </p:nvSpPr>
          <p:spPr>
            <a:xfrm>
              <a:off x="368280" y="1028880"/>
              <a:ext cx="1984680" cy="104868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02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年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H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外側区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(S3)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角丸四角形 27"/>
          <p:cNvSpPr/>
          <p:nvPr/>
        </p:nvSpPr>
        <p:spPr>
          <a:xfrm>
            <a:off x="108000" y="4387680"/>
            <a:ext cx="5467320" cy="1872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G(7.5/1.5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造影される腫瘤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A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,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早期濃染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h ou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れる所見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HAG(5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濃染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進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AG(2.8/0/7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pi 10mg+DC Bead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投与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AG(4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濃染を確認した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よ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造影を行い、終了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I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角丸四角形 27"/>
          <p:cNvSpPr/>
          <p:nvPr/>
        </p:nvSpPr>
        <p:spPr>
          <a:xfrm>
            <a:off x="5796000" y="4675320"/>
            <a:ext cx="3125880" cy="129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今後の治療方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放射線科に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BRT 35Gy/5fr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どの通常よりも低めの線量にて治療を検討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直線矢印コネクタ 2"/>
          <p:cNvCxnSpPr/>
          <p:nvPr/>
        </p:nvCxnSpPr>
        <p:spPr>
          <a:xfrm flipV="1">
            <a:off x="4284360" y="1823400"/>
            <a:ext cx="1080" cy="261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直線矢印コネクタ 13"/>
          <p:cNvCxnSpPr/>
          <p:nvPr/>
        </p:nvCxnSpPr>
        <p:spPr>
          <a:xfrm flipV="1">
            <a:off x="6659280" y="2918880"/>
            <a:ext cx="1080" cy="26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92" name="グループ化 8"/>
          <p:cNvGrpSpPr/>
          <p:nvPr/>
        </p:nvGrpSpPr>
        <p:grpSpPr>
          <a:xfrm>
            <a:off x="2519280" y="979560"/>
            <a:ext cx="3737160" cy="3279600"/>
            <a:chOff x="2519280" y="979560"/>
            <a:chExt cx="3737160" cy="3279600"/>
          </a:xfrm>
        </p:grpSpPr>
        <p:pic>
          <p:nvPicPr>
            <p:cNvPr id="693" name="図 6" descr="写真, 座る, 古い, 立つ が含まれている画像&#10;&#10;自動的に生成された説明"/>
            <p:cNvPicPr/>
            <p:nvPr/>
          </p:nvPicPr>
          <p:blipFill>
            <a:blip r:embed="rId2"/>
            <a:srcRect l="3505" t="1703" r="26756" b="37477"/>
            <a:stretch/>
          </p:blipFill>
          <p:spPr>
            <a:xfrm>
              <a:off x="2519280" y="979560"/>
              <a:ext cx="3737160" cy="3279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4" name="直線矢印コネクタ 16"/>
            <p:cNvCxnSpPr/>
            <p:nvPr/>
          </p:nvCxnSpPr>
          <p:spPr>
            <a:xfrm flipV="1">
              <a:off x="3619080" y="289044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95" name="グループ化 6"/>
          <p:cNvGrpSpPr/>
          <p:nvPr/>
        </p:nvGrpSpPr>
        <p:grpSpPr>
          <a:xfrm>
            <a:off x="5608800" y="979560"/>
            <a:ext cx="3290760" cy="3244680"/>
            <a:chOff x="5608800" y="979560"/>
            <a:chExt cx="3290760" cy="3244680"/>
          </a:xfrm>
        </p:grpSpPr>
        <p:pic>
          <p:nvPicPr>
            <p:cNvPr id="696" name="図 5" descr="古い が含まれている画像&#10;&#10;自動的に生成された説明"/>
            <p:cNvPicPr/>
            <p:nvPr/>
          </p:nvPicPr>
          <p:blipFill>
            <a:blip r:embed="rId3"/>
            <a:srcRect l="12404" t="2752" r="12404" b="22699"/>
            <a:stretch/>
          </p:blipFill>
          <p:spPr>
            <a:xfrm>
              <a:off x="5608800" y="979560"/>
              <a:ext cx="3290760" cy="3244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7" name="直線矢印コネクタ 22"/>
            <p:cNvCxnSpPr/>
            <p:nvPr/>
          </p:nvCxnSpPr>
          <p:spPr>
            <a:xfrm flipV="1">
              <a:off x="7596000" y="289368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20:48Z</dcterms:modified>
  <cp:revision>121</cp:revision>
  <dc:subject/>
  <dc:title>肝胆膵病態学総論</dc:title>
</cp:coreProperties>
</file>